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94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1680" y="4382640"/>
            <a:ext cx="854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941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1680" y="4382640"/>
            <a:ext cx="4167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8200" y="4382640"/>
            <a:ext cx="4167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941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1680" y="4382640"/>
            <a:ext cx="2749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89240" y="4382640"/>
            <a:ext cx="2749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6800" y="4382640"/>
            <a:ext cx="2749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941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941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941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94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941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01680" y="4382640"/>
            <a:ext cx="4167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941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941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8200" y="4382640"/>
            <a:ext cx="4167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941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1680" y="4382640"/>
            <a:ext cx="854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941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01680" y="4382640"/>
            <a:ext cx="854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941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1680" y="4382640"/>
            <a:ext cx="4167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8200" y="4382640"/>
            <a:ext cx="4167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941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01680" y="4382640"/>
            <a:ext cx="2749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89240" y="4382640"/>
            <a:ext cx="2749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6800" y="4382640"/>
            <a:ext cx="2749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941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941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94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941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1680" y="4382640"/>
            <a:ext cx="4167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941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8200" y="4382640"/>
            <a:ext cx="4167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941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1680" y="4382640"/>
            <a:ext cx="854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0"/>
            </a:gs>
            <a:gs pos="50000">
              <a:srgbClr val="9191ff"/>
            </a:gs>
            <a:gs pos="100000">
              <a:srgbClr val="000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00" y="0"/>
            <a:ext cx="8569080" cy="6858000"/>
          </a:xfrm>
          <a:prstGeom prst="ellipse">
            <a:avLst/>
          </a:prstGeom>
          <a:gradFill rotWithShape="0">
            <a:gsLst>
              <a:gs pos="0">
                <a:srgbClr val="5e9eff">
                  <a:alpha val="0"/>
                </a:srgbClr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893080" y="0"/>
            <a:ext cx="250920" cy="6858000"/>
          </a:xfrm>
          <a:prstGeom prst="triangle">
            <a:avLst>
              <a:gd name="adj" fmla="val 100000"/>
            </a:avLst>
          </a:prstGeom>
          <a:gradFill rotWithShape="0">
            <a:gsLst>
              <a:gs pos="0">
                <a:srgbClr val="9999ff"/>
              </a:gs>
              <a:gs pos="50000">
                <a:srgbClr val="0000a4"/>
              </a:gs>
              <a:gs pos="100000">
                <a:srgbClr val="99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250920" cy="6858000"/>
          </a:xfrm>
          <a:prstGeom prst="triangle">
            <a:avLst>
              <a:gd name="adj" fmla="val 0"/>
            </a:avLst>
          </a:prstGeom>
          <a:gradFill rotWithShape="0">
            <a:gsLst>
              <a:gs pos="0">
                <a:srgbClr val="9999ff"/>
              </a:gs>
              <a:gs pos="50000">
                <a:srgbClr val="0000a4"/>
              </a:gs>
              <a:gs pos="100000">
                <a:srgbClr val="99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1341360"/>
          </a:xfrm>
          <a:custGeom>
            <a:avLst/>
            <a:gdLst>
              <a:gd name="textAreaLeft" fmla="*/ 1019520 w 9144000"/>
              <a:gd name="textAreaRight" fmla="*/ 8124480 w 9144000"/>
              <a:gd name="textAreaTop" fmla="*/ 149400 h 1341360"/>
              <a:gd name="textAreaBottom" fmla="*/ 1191960 h 134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415" y="21600"/>
                </a:lnTo>
                <a:lnTo>
                  <a:pt x="1185" y="21600"/>
                </a:lnTo>
                <a:close/>
              </a:path>
            </a:pathLst>
          </a:cu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79280" y="0"/>
            <a:ext cx="8785440" cy="836640"/>
          </a:xfrm>
          <a:custGeom>
            <a:avLst/>
            <a:gdLst>
              <a:gd name="textAreaLeft" fmla="*/ 979560 w 8785440"/>
              <a:gd name="textAreaRight" fmla="*/ 7805880 w 8785440"/>
              <a:gd name="textAreaTop" fmla="*/ 93240 h 836640"/>
              <a:gd name="textAreaBottom" fmla="*/ 743400 h 83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415" y="21600"/>
                </a:lnTo>
                <a:lnTo>
                  <a:pt x="1185" y="21600"/>
                </a:lnTo>
                <a:close/>
              </a:path>
            </a:pathLst>
          </a:custGeom>
          <a:noFill/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941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ee941c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0800000">
            <a:off x="539640" y="836280"/>
            <a:ext cx="8064720" cy="503280"/>
          </a:xfrm>
          <a:custGeom>
            <a:avLst/>
            <a:gdLst>
              <a:gd name="textAreaLeft" fmla="*/ 715680 w 8064720"/>
              <a:gd name="textAreaRight" fmla="*/ 7349040 w 8064720"/>
              <a:gd name="textAreaTop" fmla="*/ 44640 h 503280"/>
              <a:gd name="textAreaBottom" fmla="*/ 458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299" y="21600"/>
                </a:lnTo>
                <a:lnTo>
                  <a:pt x="301" y="216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e941c"/>
                </a:solidFill>
                <a:uFillTx/>
                <a:latin typeface="Monotype Corsiva"/>
              </a:rPr>
              <a:t>Click to edit the title text format</a:t>
            </a:r>
            <a:endParaRPr b="1" lang="en-US" sz="3200" spc="-1" strike="noStrike" u="sng">
              <a:solidFill>
                <a:srgbClr val="ee941c"/>
              </a:solidFill>
              <a:uFillTx/>
              <a:latin typeface="Monotype Corsiva"/>
            </a:endParaRPr>
          </a:p>
        </p:txBody>
      </p:sp>
      <p:sp>
        <p:nvSpPr>
          <p:cNvPr id="45" name=""/>
          <p:cNvSpPr/>
          <p:nvPr/>
        </p:nvSpPr>
        <p:spPr>
          <a:xfrm>
            <a:off x="3095640" y="6497640"/>
            <a:ext cx="604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ыполнил: Кондратенко Кирилл Иванович (ДЭФ-102, 0313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900000" y="2276640"/>
            <a:ext cx="7993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ee941c">
                    <a:alpha val="50000"/>
                  </a:srgbClr>
                </a:solidFill>
                <a:effectLst>
                  <a:outerShdw dist="17819" dir="2700000" blurRad="0" rotWithShape="0">
                    <a:srgbClr val="ffcc00">
                      <a:alpha val="50000"/>
                    </a:srgbClr>
                  </a:outerShdw>
                </a:effectLst>
                <a:latin typeface="Monotype Corsiva"/>
              </a:rPr>
              <a:t>Обобщение понятия определённого интеграла. </a:t>
            </a:r>
            <a:endParaRPr b="1" lang="en-US" sz="2800" spc="1" strike="noStrike">
              <a:ln w="0">
                <a:noFill/>
              </a:ln>
              <a:solidFill>
                <a:srgbClr val="ee941c">
                  <a:alpha val="50000"/>
                </a:srgbClr>
              </a:solidFill>
              <a:effectLst>
                <a:outerShdw dist="17819" dir="2700000" blurRad="0" rotWithShape="0">
                  <a:srgbClr val="ffcc00">
                    <a:alpha val="5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ee941c">
                    <a:alpha val="50000"/>
                  </a:srgbClr>
                </a:solidFill>
                <a:effectLst>
                  <a:outerShdw dist="17819" dir="2700000" blurRad="0" rotWithShape="0">
                    <a:srgbClr val="ffcc00">
                      <a:alpha val="50000"/>
                    </a:srgbClr>
                  </a:outerShdw>
                </a:effectLst>
                <a:latin typeface="Monotype Corsiva"/>
              </a:rPr>
              <a:t>Несобственный интеграл.</a:t>
            </a:r>
            <a:endParaRPr b="1" lang="en-US" sz="2800" spc="1" strike="noStrike">
              <a:ln w="0">
                <a:noFill/>
              </a:ln>
              <a:solidFill>
                <a:srgbClr val="ee941c">
                  <a:alpha val="50000"/>
                </a:srgbClr>
              </a:solidFill>
              <a:effectLst>
                <a:outerShdw dist="17819" dir="2700000" blurRad="0" rotWithShape="0">
                  <a:srgbClr val="ffcc00">
                    <a:alpha val="5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0"/>
            </a:gs>
            <a:gs pos="50000">
              <a:srgbClr val="9191ff"/>
            </a:gs>
            <a:gs pos="100000">
              <a:srgbClr val="000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941c"/>
                </a:solidFill>
                <a:latin typeface="Arial"/>
              </a:rPr>
              <a:t>Признаки сравнения несобственных интегралов.</a:t>
            </a:r>
            <a:endParaRPr b="0" lang="en-US" sz="3200" spc="-1" strike="noStrike">
              <a:solidFill>
                <a:srgbClr val="ee941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54064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сли функци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(x)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(x)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прерывны на полупрямой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a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∞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и удовлетворяют на нём условию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0 ≤ f(x) ≤ g(x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, то из сходимости интеграл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(1),   следует сходимость интеграл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 (2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И обратно: из расходимости интеграла (2) следует расходимость интеграла (1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Следстви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Есл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(x)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g(x)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– непрерывные функции на полупрямой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a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∞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где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действительное число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0&lt;R&lt;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∞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)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то интеграл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Сходятся или расходятся одновременн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94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684360" y="2133720"/>
                <a:ext cx="136656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6443640" y="2060640"/>
                <a:ext cx="144000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3132000" y="4292640"/>
                <a:ext cx="194472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0" y="294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611280" y="5433840"/>
                <a:ext cx="136836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484360" y="5416560"/>
                <a:ext cx="136836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0"/>
            </a:gs>
            <a:gs pos="50000">
              <a:srgbClr val="9191ff"/>
            </a:gs>
            <a:gs pos="100000">
              <a:srgbClr val="000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941c"/>
                </a:solidFill>
                <a:latin typeface="Arial"/>
              </a:rPr>
              <a:t>Абсолютная и условная сходимость несобственных интегралов.</a:t>
            </a:r>
            <a:endParaRPr b="0" lang="en-US" sz="3200" spc="-1" strike="noStrike">
              <a:solidFill>
                <a:srgbClr val="ee941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ределение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усть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(x)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 произвольная непрерывная на полупрямой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a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∞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функция, необязательно знакопостоянна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Интегра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называется абсолютно сходящимся, ес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сходится интегра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Теорема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Если сходится интеграл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, то сходится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интеграл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1763640" y="2482920"/>
                <a:ext cx="122400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700360" y="3176640"/>
                <a:ext cx="129528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4572000" y="4618080"/>
                <a:ext cx="129528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619280" y="5273640"/>
                <a:ext cx="136836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0"/>
            </a:gs>
            <a:gs pos="50000">
              <a:srgbClr val="9191ff"/>
            </a:gs>
            <a:gs pos="100000">
              <a:srgbClr val="000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941c"/>
                </a:solidFill>
                <a:latin typeface="Arial"/>
              </a:rPr>
              <a:t>Признак </a:t>
            </a:r>
            <a:br>
              <a:rPr sz="3200"/>
            </a:br>
            <a:r>
              <a:rPr b="0" lang="ru-RU" sz="3200" spc="-1" strike="noStrike">
                <a:solidFill>
                  <a:srgbClr val="ee941c"/>
                </a:solidFill>
                <a:latin typeface="Arial"/>
              </a:rPr>
              <a:t>Абеля - Дирихле</a:t>
            </a:r>
            <a:endParaRPr b="0" lang="en-US" sz="3200" spc="-1" strike="noStrike">
              <a:solidFill>
                <a:srgbClr val="ee941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усть функция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(x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непрерывна и имеет ограниченную первообразную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(x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на промежутке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a;+∞]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, а функция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(x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меет непрерывную производную на этом промежутке, не возрастает и стремится к нулю пр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∞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Тогда несобственный интегра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ходит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684360" y="3025800"/>
                <a:ext cx="187164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179280" y="4149720"/>
            <a:ext cx="8713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4000" y="4221000"/>
            <a:ext cx="8540640" cy="24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сли принять в качестве                             , а в качестве                        , то легко убедиться, что все требования, накладываемые на функции, выполнены, т.е. данный интеграл сходится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395280" y="4581360"/>
                <a:ext cx="201456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α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,</m:t>
                        </m:r>
                        <m:r>
                          <m:t xml:space="preserve">α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0" y="31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635280" y="5738760"/>
                <a:ext cx="136836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7091280" y="5516640"/>
                <a:ext cx="129708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α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500"/>
                            </p:stCondLst>
                            <p:childTnLst>
                              <p:par>
                                <p:cTn id="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500"/>
                            </p:stCondLst>
                            <p:childTnLst>
                              <p:par>
                                <p:cTn id="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0"/>
            </a:gs>
            <a:gs pos="50000">
              <a:srgbClr val="9191ff"/>
            </a:gs>
            <a:gs pos="100000">
              <a:srgbClr val="000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941c"/>
                </a:solidFill>
                <a:latin typeface="Arial"/>
              </a:rPr>
              <a:t>Примеры.</a:t>
            </a:r>
            <a:br>
              <a:rPr sz="3200"/>
            </a:br>
            <a:endParaRPr b="0" lang="en-US" sz="3200" spc="-1" strike="noStrike">
              <a:solidFill>
                <a:srgbClr val="ee941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54064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йти несобственные интегралы или доказать их расходимость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шени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интеграл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о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сходящий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755640" y="1916280"/>
                <a:ext cx="136836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84360" y="3141720"/>
                <a:ext cx="136836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-114480" y="246384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4480" y="293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95280" y="3849840"/>
                <a:ext cx="820908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→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lim>
                    </m:limLow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nary>
                    <m:r>
                      <m:t xml:space="preserve">+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0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nary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→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arc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eqArr>
                      <m:e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eqArr>
                    <m:r>
                      <m:t xml:space="preserve"></m:t>
                    </m:r>
                    <m:r>
                      <m:t xml:space="preserve">+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b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arc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eqArr>
                      <m:e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  <m:r>
                      <m:t xml:space="preserve">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-114480" y="341640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395280" y="4726080"/>
                <a:ext cx="75614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→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d>
                    <m:r>
                      <m:t xml:space="preserve">+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b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-114480" y="369252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468360" y="5329080"/>
                <a:ext cx="719928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→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d>
                    <m:r>
                      <m:t xml:space="preserve">+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b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-112680" y="4120560"/>
            <a:ext cx="25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0"/>
            </a:gs>
            <a:gs pos="50000">
              <a:srgbClr val="9191ff"/>
            </a:gs>
            <a:gs pos="100000">
              <a:srgbClr val="000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941c"/>
                </a:solidFill>
                <a:latin typeface="Arial"/>
              </a:rPr>
              <a:t>Примеры</a:t>
            </a:r>
            <a:br>
              <a:rPr sz="3200"/>
            </a:br>
            <a:endParaRPr b="0" lang="en-US" sz="3200" spc="-1" strike="noStrike">
              <a:solidFill>
                <a:srgbClr val="ee941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шени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интеграл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ро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расходящий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755640" y="1413000"/>
                <a:ext cx="144000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395280" y="2852640"/>
                <a:ext cx="125892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0" y="288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33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38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324000" y="5659560"/>
                <a:ext cx="647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-114480" y="270036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448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50920" y="3789360"/>
                <a:ext cx="640872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+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α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+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ε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nary>
                      <m:naryPr>
                        <m:chr m:val="∫"/>
                      </m:naryPr>
                      <m:sub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ε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-114480" y="367200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50920" y="4740120"/>
                <a:ext cx="864216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α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eqArr>
                      <m:e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  <m:r>
                      <m:t xml:space="preserve"></m:t>
                    </m:r>
                    <m:r>
                      <m:t xml:space="preserve">+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ε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eqArr>
                      <m:e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ε</m:t>
                            </m:r>
                          </m:sub>
                        </m:sSub>
                      </m:e>
                    </m:eqArr>
                    <m:r>
                      <m:t xml:space="preserve">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α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ε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(</m:t>
                            </m:r>
                            <m:r>
                              <m:t xml:space="preserve">ε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∞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∞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0"/>
            </a:gs>
            <a:gs pos="50000">
              <a:srgbClr val="9191ff"/>
            </a:gs>
            <a:gs pos="100000">
              <a:srgbClr val="000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941c"/>
                </a:solidFill>
                <a:latin typeface="Arial"/>
              </a:rPr>
              <a:t>Определение. Несобственные интегралы 1-ого и 2-ого рода.</a:t>
            </a:r>
            <a:endParaRPr b="0" lang="en-US" sz="3200" spc="-1" strike="noStrike">
              <a:solidFill>
                <a:srgbClr val="ee941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собственный интеграл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частный случай определённого интеграл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уществует 2 рода несобственный интегралов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собственные интегралы 1-ого род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собственные интегралы 2-ого род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алее рассмотрим их подробне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0"/>
            </a:gs>
            <a:gs pos="50000">
              <a:srgbClr val="9191ff"/>
            </a:gs>
            <a:gs pos="100000">
              <a:srgbClr val="000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941c"/>
                </a:solidFill>
                <a:latin typeface="Arial"/>
              </a:rPr>
              <a:t>Определение. Несобственные интегралы 1-ого и 2-ого рода.</a:t>
            </a:r>
            <a:endParaRPr b="0" lang="en-US" sz="3200" spc="-1" strike="noStrike">
              <a:solidFill>
                <a:srgbClr val="ee941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54064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собственным интегралом 1-ого род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называется интеграл с бесконечным пределами интегрирования (подынтегральная функция не ограничена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собственный интеграл в пределе от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 +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∞ определяется равенством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В пределе от -∞ до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Если данный предел существует и конечен, то исходный интеграл принято называть существующим или сходящимся. В противном случае исходный интеграл не существует или расходит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3203640" y="3141720"/>
                <a:ext cx="295092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b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(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203640" y="4294080"/>
                <a:ext cx="295272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→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(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0"/>
            </a:gs>
            <a:gs pos="50000">
              <a:srgbClr val="9191ff"/>
            </a:gs>
            <a:gs pos="100000">
              <a:srgbClr val="000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941c"/>
                </a:solidFill>
                <a:latin typeface="Arial"/>
              </a:rPr>
              <a:t>Определение. Несобственные интегралы 1-ого и 2-ого рода.</a:t>
            </a:r>
            <a:endParaRPr b="0" lang="en-US" sz="3200" spc="-1" strike="noStrike">
              <a:solidFill>
                <a:srgbClr val="ee941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Для функции,  непрерывной на всей числовой оси, формула следующа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, где С – любое число. Если хотя бы один из пределов не существует, то несобственный интеграл называется расходящимся.  Если существуют оба предела, то данный несобственный интеграл называется сходящим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Можно сделать вывод, что сходящиеся несобственные интегралы являются не пределами интегральных сумм, а пределами определённых интегралов, с переменными верхними или нижними пределами при стремлении этих пределов к бесконеч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468360" y="2276640"/>
                <a:ext cx="8172360" cy="90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→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(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c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)</m:t>
                    </m:r>
                    <m:r>
                      <m:t xml:space="preserve">+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b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(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→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(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b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(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0"/>
            </a:gs>
            <a:gs pos="50000">
              <a:srgbClr val="9191ff"/>
            </a:gs>
            <a:gs pos="100000">
              <a:srgbClr val="000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941c"/>
                </a:solidFill>
                <a:latin typeface="Arial"/>
              </a:rPr>
              <a:t>Определение. Несобственные интегралы 1-ого и 2-ого рода.</a:t>
            </a:r>
            <a:endParaRPr b="0" lang="en-US" sz="3200" spc="-1" strike="noStrike">
              <a:solidFill>
                <a:srgbClr val="ee941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собственным интегралом 2-ого род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называется интеграл от неограниченной функции (функция имеет одну или несколько точек разрыва второго рода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функции, определённой на полуинтервале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a,b)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ложим точку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обой. Путь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ункция не ограничена н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a,b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, но ограничена на любом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огда для данной функции справедливо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налогично для функции, определённо на полуинтервале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a,b]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692360" y="3645000"/>
                <a:ext cx="208764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;</m:t>
                    </m:r>
                    <m:r>
                      <m:t xml:space="preserve">b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]</m:t>
                    </m:r>
                    <m:r>
                      <m:t xml:space="preserve">⊂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629080" y="4149720"/>
                <a:ext cx="374328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α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</m:lim>
                    </m:limLow>
                    <m:r>
                      <m:t xml:space="preserve">(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612880" y="5727600"/>
                <a:ext cx="374364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α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</m:lim>
                    </m:limLow>
                    <m:r>
                      <m:t xml:space="preserve">(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0"/>
            </a:gs>
            <a:gs pos="50000">
              <a:srgbClr val="9191ff"/>
            </a:gs>
            <a:gs pos="100000">
              <a:srgbClr val="000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941c"/>
                </a:solidFill>
                <a:latin typeface="Arial"/>
              </a:rPr>
              <a:t>Определение. Несобственные интегралы 1-ого и 2-ого рода.</a:t>
            </a:r>
            <a:endParaRPr b="0" lang="en-US" sz="3200" spc="-1" strike="noStrike">
              <a:solidFill>
                <a:srgbClr val="ee941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функции, непрерывной на интервале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,b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 и неограниченной вблизи его концов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несобственный интеграл определяется следующим равенством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 где С – любая точка интервала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,b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сли хотя бы один из пределов не существует , то несобственный интеграл называют расходящимся. Если существуют оба предела и они конечны, то данный несобственный интеграл называют сходящим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функции, непрерывной на отрезке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a,b]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всюду кроме точки с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&lt;c&lt;b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 несобственный интеграл определяется равенством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68360" y="2565360"/>
                <a:ext cx="806436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α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r>
                      <m:t xml:space="preserve">(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)</m:t>
                    </m:r>
                    <m:r>
                      <m:t xml:space="preserve">+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β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(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α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r>
                      <m:t xml:space="preserve">(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β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(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556000" y="5661000"/>
                <a:ext cx="410364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c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0"/>
            </a:gs>
            <a:gs pos="50000">
              <a:srgbClr val="9191ff"/>
            </a:gs>
            <a:gs pos="100000">
              <a:srgbClr val="000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941c"/>
                </a:solidFill>
                <a:latin typeface="Arial"/>
              </a:rPr>
              <a:t>Свойства несобственного интеграла 1-ого рода.</a:t>
            </a:r>
            <a:endParaRPr b="0" lang="en-US" sz="3200" spc="-1" strike="noStrike">
              <a:solidFill>
                <a:srgbClr val="ee94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усть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(x)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прерывна на полупрямой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a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∞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, тогда интеграл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1&gt;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ведут себя одинаково относительно сходим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cc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Есл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сходится и равен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то интеграл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где с- произвольно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число, также сходится и равен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 * 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294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826920" y="2165400"/>
                <a:ext cx="122400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484360" y="2127240"/>
                <a:ext cx="122400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763640" y="3967200"/>
                <a:ext cx="122400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357800" y="4653000"/>
                <a:ext cx="136656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c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0"/>
            </a:gs>
            <a:gs pos="50000">
              <a:srgbClr val="9191ff"/>
            </a:gs>
            <a:gs pos="100000">
              <a:srgbClr val="000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941c"/>
                </a:solidFill>
                <a:latin typeface="Arial"/>
              </a:rPr>
              <a:t>Свойства несобственного интеграла 1-ого рода.</a:t>
            </a:r>
            <a:endParaRPr b="0" lang="en-US" sz="3200" spc="-1" strike="noStrike">
              <a:solidFill>
                <a:srgbClr val="ee941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ffcc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сли интеграл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ходятся и соответственно равны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1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2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о интегра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кже сходится и равен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1+S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294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755640" y="2124000"/>
                <a:ext cx="136836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484360" y="2060640"/>
                <a:ext cx="136836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826920" y="3500280"/>
                <a:ext cx="2737080" cy="112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0"/>
            </a:gs>
            <a:gs pos="50000">
              <a:srgbClr val="9191ff"/>
            </a:gs>
            <a:gs pos="100000">
              <a:srgbClr val="0000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941c"/>
                </a:solidFill>
                <a:latin typeface="Arial"/>
              </a:rPr>
              <a:t>Критерий Коши.</a:t>
            </a:r>
            <a:br>
              <a:rPr sz="3200"/>
            </a:br>
            <a:endParaRPr b="0" lang="en-US" sz="3200" spc="-1" strike="noStrike">
              <a:solidFill>
                <a:srgbClr val="ee941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сходимости интеграл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обходимо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статочно, чтобы для любого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&gt;0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можно указать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=A(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, такое, что для любых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1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, больших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, выполняется неравенство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357800" y="1386000"/>
                <a:ext cx="1366560" cy="110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3276720" y="3716280"/>
                <a:ext cx="2879640" cy="16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R</m:t>
                            </m:r>
                            <m:r>
                              <m:t xml:space="preserve">2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d>
                    <m:r>
                      <m:t xml:space="preserve">&lt;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iory</dc:creator>
  <dc:description/>
  <dc:language>en-US</dc:language>
  <cp:lastModifiedBy>Кондратенко Кирилл Иванович</cp:lastModifiedBy>
  <dcterms:modified xsi:type="dcterms:W3CDTF">2004-06-02T16:22:11Z</dcterms:modified>
  <cp:revision>24</cp:revision>
  <dc:subject/>
  <dc:title>PowerPoint Presentation</dc:title>
</cp:coreProperties>
</file>