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5577480" y="3291480"/>
            <a:ext cx="6858000" cy="274680"/>
          </a:xfrm>
          <a:custGeom>
            <a:avLst/>
            <a:gdLst>
              <a:gd name="textAreaLeft" fmla="*/ 1371600 w 6858000"/>
              <a:gd name="textAreaRight" fmla="*/ 8229960 w 6858000"/>
              <a:gd name="textAreaTop" fmla="*/ 35640 h 274680"/>
              <a:gd name="textAreaBottom" fmla="*/ 239040 h 27468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-3291840" y="3291480"/>
            <a:ext cx="6858000" cy="274680"/>
          </a:xfrm>
          <a:custGeom>
            <a:avLst/>
            <a:gdLst>
              <a:gd name="textAreaLeft" fmla="*/ 1371600 w 6858000"/>
              <a:gd name="textAreaRight" fmla="*/ 5486400 w 6858000"/>
              <a:gd name="textAreaTop" fmla="*/ 35640 h 274680"/>
              <a:gd name="textAreaBottom" fmla="*/ 239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5040" y="-3560"/>
                  <a:pt x="12240" y="6360"/>
                  <a:pt x="17280" y="1400"/>
                </a:cubicBezTo>
                <a:lnTo>
                  <a:pt x="21600" y="20200"/>
                </a:lnTo>
                <a:cubicBezTo>
                  <a:pt x="16560" y="25160"/>
                  <a:pt x="9360" y="15240"/>
                  <a:pt x="4320" y="2020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71640" y="6497640"/>
            <a:ext cx="63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ыполнил: Кондратенко Кирилл Иванович (ДЭФ-102, 03132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2000" y="476280"/>
            <a:ext cx="70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7462f"/>
                    </a:gs>
                    <a:gs pos="100000">
                      <a:srgbClr val="339966"/>
                    </a:gs>
                  </a:gsLst>
                  <a:lin ang="5400000"/>
                </a:gradFill>
                <a:latin typeface="Monotype Corsiva"/>
              </a:rPr>
              <a:t>Функции нескольких </a:t>
            </a:r>
            <a:endParaRPr b="1" lang="en-US" sz="24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7462f"/>
                  </a:gs>
                  <a:gs pos="100000">
                    <a:srgbClr val="33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7462f"/>
                    </a:gs>
                    <a:gs pos="100000">
                      <a:srgbClr val="339966"/>
                    </a:gs>
                  </a:gsLst>
                  <a:lin ang="5400000"/>
                </a:gradFill>
                <a:latin typeface="Monotype Corsiva"/>
              </a:rPr>
              <a:t>переменных.</a:t>
            </a:r>
            <a:endParaRPr b="1" lang="en-US" sz="24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7462f"/>
                  </a:gs>
                  <a:gs pos="100000">
                    <a:srgbClr val="33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еометрический смысл условия дифференцируемости функции двух переменны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пределение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сательной плоскостью к графику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=f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в т. (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f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ется такая плоскость, что разность её аппликаты и значения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является величиной, бесконечно малой по сравнению с 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ρ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при 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ρ</a:t>
            </a:r>
            <a:r>
              <a:rPr b="0" lang="el-GR" sz="1800" spc="-1" strike="noStrike">
                <a:solidFill>
                  <a:srgbClr val="eaeaea"/>
                </a:solidFill>
                <a:latin typeface="Arial"/>
                <a:ea typeface="Arial"/>
              </a:rPr>
              <a:t>→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0, где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Пусть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=f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=f(x,y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, тогда условие дифференцируемости в т.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этой функции записывается в ви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Рассмотрим плоскость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Её аппликат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Разность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Таким образом если функция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u=f(x,y)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, дифференцируемая в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.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о график этой функции в соответствующей точке (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f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меет касательную плоскость, задаваемую уравнением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60720" y="2997360"/>
                <a:ext cx="2879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4000" y="4005360"/>
                <a:ext cx="4176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11600" y="4005360"/>
                <a:ext cx="40244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32000" y="4292640"/>
                <a:ext cx="3168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24000" y="4641840"/>
                <a:ext cx="3095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19280" y="5013360"/>
                <a:ext cx="7200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87280" y="6165720"/>
                <a:ext cx="626436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еометрический смысл условия дифференцируемости функции двух переменны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пределение2.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оскость П, проходящая через точку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верхности, называется касательной плоскостью в этой точке, если угол между этой плоскостью и секущей, проходящей через точку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 любую точку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верхности, стремится к нулю когда точк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ремится к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276720" cy="3124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ифференциал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Дифференциалом функци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зывается сумма произведений частных производных этой функции на приращения соответствующих независимых переменных, т.е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ли, учитывая, чт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x =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∆x, dy = ∆y,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эту формулу можно записать вви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556000" y="3090960"/>
                <a:ext cx="3816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Δ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27280" y="5227560"/>
                <a:ext cx="3457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ифференциал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ункция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 =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зывается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дифференцируемо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точке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если ее полное приращение может быть представлено в вид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где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z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дифференциал функции, 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  <a:ea typeface="Arial"/>
              </a:rPr>
              <a:t>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  <a:ea typeface="Arial"/>
              </a:rPr>
              <a:t>=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∆x, ∆y), 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  <a:ea typeface="Arial"/>
              </a:rPr>
              <a:t>β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  <a:ea typeface="Arial"/>
              </a:rPr>
              <a:t>=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β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∆x,∆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- бесконечно малые при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  <a:ea typeface="Arial"/>
              </a:rPr>
              <a:t>∆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  <a:ea typeface="Arial"/>
              </a:rPr>
              <a:t>x→0,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∆y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  <a:ea typeface="Arial"/>
              </a:rPr>
              <a:t>→0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аким образом,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дифференциал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функции нескольких переменных, как и в случае одной переменной, представляет главную, линейную часть относительно приращений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  <a:ea typeface="Arial"/>
              </a:rPr>
              <a:t>∆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  <a:ea typeface="Arial"/>
              </a:rPr>
              <a:t>x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  <a:ea typeface="Arial"/>
              </a:rPr>
              <a:t>,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∆y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часть полного приращения функц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едует заметить, что для функции нескольких переменных существование частных производных является необходимым, но недостаточным условием дифференцируемости функци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орема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частные производные функции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уществуют в окрестности точки  (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,y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 непрерывны в самой точке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, то функция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=f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дифференцируема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этой точк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16360" y="2276640"/>
                <a:ext cx="280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+</m:t>
                    </m:r>
                    <m:r>
                      <m:t xml:space="preserve">αΔx</m:t>
                    </m:r>
                    <m:r>
                      <m:t xml:space="preserve">+</m:t>
                    </m:r>
                    <m:r>
                      <m:t xml:space="preserve">β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00720" y="5457960"/>
                <a:ext cx="576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изводная по направлению. Градиен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усть функция двух переменных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=f(M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задана в некоторой окрестности точк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. Рассмотрим некоторое направление, определяемое единичным вектором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где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 прямой, проходящей по этому направлению через точку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возьмем точку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M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+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∆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, y+∆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так что длина отрезк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M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равна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Приращение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(M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определяется формуло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де  ∆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∆y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связаны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отношениями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35640" y="2079720"/>
                <a:ext cx="201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l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cos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58920" y="2486160"/>
                <a:ext cx="230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3357720"/>
                <a:ext cx="1152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97080" y="3648240"/>
                <a:ext cx="431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Δ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11640" y="4941720"/>
                <a:ext cx="345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Δ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Δ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3440" y="401472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изводная по направлению. Градиен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дел отношения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∆u/∆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при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∆l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→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называется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производной функции по направлению</a:t>
            </a: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бозначается символом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сли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M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дифференцируема в точк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(x,y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то ее приращение в этой точке, с учетом соотношений для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∆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x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и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∆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y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может быть записана в фор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елив обе части этого равенства на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∆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 переходя к пределу при 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∆l→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, получаем формулу для производной функции по направлению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51280" y="2349360"/>
                <a:ext cx="441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372360" y="1916280"/>
                <a:ext cx="1792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l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9640" y="2781360"/>
                <a:ext cx="1800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l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84360" y="4365720"/>
                <a:ext cx="79200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Δ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Δy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Δ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Δ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Δ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Δ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643280" y="5805360"/>
                <a:ext cx="31687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изводная по направлению. Градиен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Градиентом функц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=f(x,y,z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точке М называется вектор, координаты которого равны соответственно частн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изводным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этой точк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ля обозначения градиента функции используется обозначение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rad u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скольку единичный вектор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меет координаты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о производная по направлению для случая функции трех переменных запишется в ви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.е. имеет форму скалярного произведения векторов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 grad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u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аким образом, градиент функции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характеризует направление и величину максимальной скорости возрастания этой функции в точк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84360" y="1773360"/>
                <a:ext cx="1440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2986200"/>
                <a:ext cx="28814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72040" y="3789360"/>
                <a:ext cx="21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l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732720" y="3865680"/>
                <a:ext cx="20160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, 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, cos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5300640"/>
                <a:ext cx="21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l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08000" y="4724280"/>
                <a:ext cx="4392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limUpp>
                      <m:e>
                        <m:r>
                          <m:t xml:space="preserve">l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кстремум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 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ена на множеств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нутренняя точка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зывается точкой локального максимума (минимума) ,если существует такая окрестность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(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к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что для все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олняется неравенств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к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локального максимума или минимума называется точкой локального экстремум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596360" y="1619280"/>
                <a:ext cx="1152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987640" y="1989000"/>
                <a:ext cx="25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26920" y="2952720"/>
                <a:ext cx="2449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1280" y="3759120"/>
                <a:ext cx="4105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словный экстремум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усть рассматривается функция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=f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аргументы 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y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торой удовлетворяют условию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(x,y)=C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называемому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уравнением связ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очк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 y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ется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точкой условного максимума (минимума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если существует такая окрестность этой точки, что для всех точек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x,y)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з этой окрестности удовлетворяющих условию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(x,y)=C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выполняется неравенств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очка условного максимума (минимума) не является точкой безусловного экстрему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иболее простым способом нахождения условного экстремума функции двух переменных является сведение задачи к отысканию экстремума функции одной переменной. Допустим уравнение связ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(x,y)=C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удалось разрешить относительно одной из переменных, например, выразить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ерез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Подставив полученное выражение в функцию двух переменных, получим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о есть функцию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одно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переменной. Ее экстремум и будет условным экстремумом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=F(x,y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411280" y="3036960"/>
                <a:ext cx="4321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11280" y="5661000"/>
                <a:ext cx="3456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р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йти частные производные для функций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и их значение в точке (0,0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ш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26920" y="1930320"/>
                <a:ext cx="2089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11280" y="3860640"/>
                <a:ext cx="175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98320" y="4314960"/>
                <a:ext cx="1548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00360" y="3789360"/>
                <a:ext cx="142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95680" y="4314960"/>
                <a:ext cx="1371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14320" y="2309760"/>
                <a:ext cx="1322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800" y="5734080"/>
                <a:ext cx="246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8800" y="6165720"/>
                <a:ext cx="2463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5734080"/>
                <a:ext cx="1446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71800" y="6186600"/>
                <a:ext cx="142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еделени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 каждой точк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з множеств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по какому-либо закону ставится в соответствие некоторое числ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з некоторого числового множеств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Тогда будем говорить, что на множеств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{M}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дана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=f(M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ри этом множества 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U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зываются соответственно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областью определени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областью значений функци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 и в случае функции одной переменной, область определения функции нескольких переменных либо задается априори, либо определяется из формулы функциональной зависимости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u=f(M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путем соблюдения корректности выполнения соответствующих математических операци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 известно, функция одной переменной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y=f(x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зображается на плоскости в виде линии. В случае двух переменных область определения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функции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z=f(x,y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представляет собой некоторое множество точек на координатной плоскости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xy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Тогда сама функция изображается в виде некоторой поверхност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Линии уровн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46083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рисунке справа показаны линии уровня для функции двух переменных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392640" cy="339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2480" y="1413000"/>
            <a:ext cx="82915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инией уровня функции двух переменных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z=f(x,y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зывается множество точек на плоскости, таких, что во всех этих точках значение функции одно и то же и равн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6880" y="4365720"/>
                <a:ext cx="3416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ел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ение предела функции нескольких переменных по своей структуре не отличается от определения предела функции одной переменно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исло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зывается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пределом функци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u=f(M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при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</a:t>
            </a:r>
            <a:r>
              <a:rPr b="1" lang="ru-RU" sz="20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если для любой</a:t>
            </a: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ледовательности точек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{M</a:t>
            </a:r>
            <a:r>
              <a:rPr b="1" lang="en-US" sz="2000" spc="-1" strike="noStrike" baseline="-25000">
                <a:solidFill>
                  <a:srgbClr val="eaeaea"/>
                </a:solidFill>
                <a:latin typeface="Verdana"/>
              </a:rPr>
              <a:t>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з множества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сходящейся к 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А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lang="en-US" sz="2000" spc="-1" strike="noStrike" baseline="-25000">
                <a:solidFill>
                  <a:srgbClr val="eaeaea"/>
                </a:solidFill>
                <a:latin typeface="Verdana"/>
              </a:rPr>
              <a:t>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≠A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)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соответствующая последовательность значений функции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{f(M</a:t>
            </a:r>
            <a:r>
              <a:rPr b="1" lang="en-US" sz="2000" spc="-1" strike="noStrike" baseline="-25000">
                <a:solidFill>
                  <a:srgbClr val="eaeaea"/>
                </a:solidFill>
                <a:latin typeface="Verdana"/>
              </a:rPr>
              <a:t>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)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сходится к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Что равносильно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280" y="5022720"/>
                <a:ext cx="8301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limUpp>
                      <m:e/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[</m:t>
                    </m:r>
                    <m:r>
                      <m:t xml:space="preserve">∀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A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ел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исл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зывается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пределом функци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u=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при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</a:t>
            </a:r>
            <a:r>
              <a:rPr b="1" lang="ru-RU" sz="20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сли для любого числа 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</a:rPr>
              <a:t>ε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gt;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существует такое число  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  <a:ea typeface="Arial"/>
              </a:rPr>
              <a:t>δ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</a:rPr>
              <a:t>ε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)&gt;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что для всех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Є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, удовлетворяющих условию 0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lt;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</a:rPr>
              <a:t>ρ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(M,A)&lt; 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  <a:ea typeface="Arial"/>
              </a:rPr>
              <a:t>δ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,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справедливо неравенство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Arial"/>
              </a:rPr>
              <a:t>|f(M)-b|&lt; </a:t>
            </a:r>
            <a:r>
              <a:rPr b="1" lang="el-GR" sz="2000" spc="-1" strike="noStrike">
                <a:solidFill>
                  <a:srgbClr val="eaeaea"/>
                </a:solidFill>
                <a:latin typeface="Verdana"/>
              </a:rPr>
              <a:t>ε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то равносильно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пределов суммы, разности, произведения и частного функции нескольких переменных справедливы те же формулы, что и в одномерном случа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4000" y="3933720"/>
                <a:ext cx="8208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limUpp>
                      <m:e/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епрерывность функции нескольких переменны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=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зывается непрерывной в т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есл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=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зывается непрерывной на множеств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если она непрерывна в каждой точке этого множеств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, тогда условие непрерывности имеет вид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иксируя все переменные кроме одной получим функцию одной переменной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a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a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ая будет непрерывна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=a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есл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 x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а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.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аким образом из непрерывности функци нескольких переменных в точке следует ёё непрерывность по каждой координате(при фиксированных остальных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1773360"/>
                <a:ext cx="22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03280" y="3860640"/>
                <a:ext cx="6985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16720" y="4187880"/>
                <a:ext cx="1800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Δu</m:t>
                        </m:r>
                      </m:e>
                      <m:lim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сновные свойства непрерывных функц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операции над непрерывными функциями приводят к непрерывным функция (для частного знаменатель должен быть отличен от нуля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ость сложной функци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Теорем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 имеет смысл сложная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 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Если функции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 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ы в т.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, а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а в т.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, тогда сложная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…, 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епрерывна в т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(0)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знака непрерывной функци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Теорем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=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а в т. А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A)≠0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тогда существует такая </a:t>
            </a:r>
            <a:r>
              <a:rPr b="0" lang="el-GR" sz="2000" spc="-1" strike="noStrike">
                <a:solidFill>
                  <a:srgbClr val="eaeaea"/>
                </a:solidFill>
                <a:latin typeface="Verdana"/>
              </a:rPr>
              <a:t>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окрестность т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в которой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меет тот же знак, что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A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724360" y="3716280"/>
                <a:ext cx="1727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4025880"/>
                <a:ext cx="2808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≡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сновные свойства непрерывных функц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хождение непрерывной функции через любое промежуточное знач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Теорем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усть функция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=f(M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прерывна на связном множеств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Тогда для любых точек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ля любой кривой,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соединяющей эти точки и лежащей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{M}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йдётся точка на этой кривой, в которой функция принимает любое заданное промежуточное значение между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A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(B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оремы Вейерштрасс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Теорема1.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нкция, непрерывная на ограниченном , замкнутом множестве, ограничена на этом множеств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Теорема2.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нкция, непрерывная на ограниченном, замкнутом множестве, достигает на этом множестве своих точных верхних и нижних граней. Для неограниченных или незамкнутых множеств эти утверждения неверны уже в одномерном случа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88000" y="2852640"/>
                <a:ext cx="1296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,B 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855b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астные производны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существует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о он называется част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изводной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= f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…, 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т.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(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…, 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аргументу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K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, и обозначается одним из символо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аким образом,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ак как изменяется только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.е.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k-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я координат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ргумента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то частная производная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являетс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ыкновенной производной функции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 функции только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k-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й переменной (при фиксированных остальных переменных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71640" y="1406520"/>
                <a:ext cx="1152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11280" y="2766960"/>
                <a:ext cx="2448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03640" y="2781360"/>
                <a:ext cx="201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924360" y="3933720"/>
                <a:ext cx="1008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7640" y="4365720"/>
                <a:ext cx="507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ory</dc:creator>
  <dc:description/>
  <dc:language>en-US</dc:language>
  <cp:lastModifiedBy>Кондратенко Кирилл Иванович</cp:lastModifiedBy>
  <dcterms:modified xsi:type="dcterms:W3CDTF">2004-06-03T22:13:21Z</dcterms:modified>
  <cp:revision>47</cp:revision>
  <dc:subject/>
  <dc:title>PowerPoint Presentation</dc:title>
</cp:coreProperties>
</file>