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4782-871C-449D-9F56-434DC7ABF6D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32040" y="404640"/>
            <a:ext cx="724032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000" y="1980720"/>
            <a:ext cx="8280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" y="4528080"/>
            <a:ext cx="8280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2040" y="404640"/>
            <a:ext cx="724032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000" y="1980720"/>
            <a:ext cx="404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0960" y="1980720"/>
            <a:ext cx="404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8000" y="4528080"/>
            <a:ext cx="404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0960" y="4528080"/>
            <a:ext cx="404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32040" y="404640"/>
            <a:ext cx="724032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000" y="1980720"/>
            <a:ext cx="266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67720" y="1980720"/>
            <a:ext cx="266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67800" y="1980720"/>
            <a:ext cx="266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8000" y="4528080"/>
            <a:ext cx="266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67720" y="4528080"/>
            <a:ext cx="266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67800" y="4528080"/>
            <a:ext cx="266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32040" y="404640"/>
            <a:ext cx="724032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68000" y="19807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2040" y="404640"/>
            <a:ext cx="724032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9807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2040" y="404640"/>
            <a:ext cx="724032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000" y="1980720"/>
            <a:ext cx="404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0960" y="1980720"/>
            <a:ext cx="404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32040" y="404640"/>
            <a:ext cx="724032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32040" y="404640"/>
            <a:ext cx="7240320" cy="51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32040" y="404640"/>
            <a:ext cx="724032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000" y="1980720"/>
            <a:ext cx="404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0960" y="1980720"/>
            <a:ext cx="404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000" y="4528080"/>
            <a:ext cx="404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32040" y="404640"/>
            <a:ext cx="724032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68000" y="19807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32040" y="404640"/>
            <a:ext cx="724032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000" y="1980720"/>
            <a:ext cx="404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0960" y="1980720"/>
            <a:ext cx="404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10960" y="4528080"/>
            <a:ext cx="404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32040" y="404640"/>
            <a:ext cx="724032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000" y="1980720"/>
            <a:ext cx="404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0960" y="1980720"/>
            <a:ext cx="404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8000" y="4528080"/>
            <a:ext cx="8280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32040" y="404640"/>
            <a:ext cx="724032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000" y="1980720"/>
            <a:ext cx="8280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000" y="4528080"/>
            <a:ext cx="8280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2040" y="404640"/>
            <a:ext cx="724032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000" y="1980720"/>
            <a:ext cx="404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0960" y="1980720"/>
            <a:ext cx="404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8000" y="4528080"/>
            <a:ext cx="404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10960" y="4528080"/>
            <a:ext cx="404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32040" y="404640"/>
            <a:ext cx="724032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000" y="1980720"/>
            <a:ext cx="266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67720" y="1980720"/>
            <a:ext cx="266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67800" y="1980720"/>
            <a:ext cx="266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8000" y="4528080"/>
            <a:ext cx="266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67720" y="4528080"/>
            <a:ext cx="266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67800" y="4528080"/>
            <a:ext cx="266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2040" y="404640"/>
            <a:ext cx="724032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000" y="19807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2040" y="404640"/>
            <a:ext cx="724032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000" y="1980720"/>
            <a:ext cx="404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0960" y="1980720"/>
            <a:ext cx="404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32040" y="404640"/>
            <a:ext cx="724032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32040" y="404640"/>
            <a:ext cx="7240320" cy="51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32040" y="404640"/>
            <a:ext cx="724032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000" y="1980720"/>
            <a:ext cx="404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0960" y="1980720"/>
            <a:ext cx="404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" y="4528080"/>
            <a:ext cx="404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32040" y="404640"/>
            <a:ext cx="724032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000" y="1980720"/>
            <a:ext cx="404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0960" y="1980720"/>
            <a:ext cx="404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0960" y="4528080"/>
            <a:ext cx="404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32040" y="404640"/>
            <a:ext cx="724032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000" y="1980720"/>
            <a:ext cx="404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0960" y="1980720"/>
            <a:ext cx="404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000" y="4528080"/>
            <a:ext cx="8280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cde7"/>
            </a:gs>
            <a:gs pos="50000">
              <a:srgbClr val="a9b6eb"/>
            </a:gs>
            <a:gs pos="100000">
              <a:srgbClr val="cdcde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0" y="403560"/>
            <a:ext cx="9144000" cy="107964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50000">
                <a:srgbClr val="ffffff">
                  <a:alpha val="0"/>
                </a:srgbClr>
              </a:gs>
              <a:gs pos="100000">
                <a:srgbClr val="cccc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32040" y="404640"/>
            <a:ext cx="724032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000" y="19807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2070000" indent="-3873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2070000" indent="-38736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2070000" indent="-38736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-360" y="404640"/>
            <a:ext cx="971640" cy="10670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72360" y="404640"/>
            <a:ext cx="971640" cy="10670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042920" y="404640"/>
            <a:ext cx="7058160" cy="10796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476280"/>
            <a:ext cx="900000" cy="431640"/>
          </a:xfrm>
          <a:prstGeom prst="rightArrow">
            <a:avLst>
              <a:gd name="adj1" fmla="val 34435"/>
              <a:gd name="adj2" fmla="val 92303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0800000">
            <a:off x="0" y="909720"/>
            <a:ext cx="900000" cy="503280"/>
          </a:xfrm>
          <a:prstGeom prst="rightArrow">
            <a:avLst>
              <a:gd name="adj1" fmla="val 35019"/>
              <a:gd name="adj2" fmla="val 163063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rot="10800000">
            <a:off x="8172000" y="475920"/>
            <a:ext cx="971640" cy="504720"/>
          </a:xfrm>
          <a:prstGeom prst="rightArrow">
            <a:avLst>
              <a:gd name="adj1" fmla="val 34435"/>
              <a:gd name="adj2" fmla="val 85221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244000" y="981000"/>
            <a:ext cx="865080" cy="430200"/>
          </a:xfrm>
          <a:prstGeom prst="rightArrow">
            <a:avLst>
              <a:gd name="adj1" fmla="val 34315"/>
              <a:gd name="adj2" fmla="val 190018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7" name=""/>
            <p:cNvSpPr/>
            <p:nvPr/>
          </p:nvSpPr>
          <p:spPr>
            <a:xfrm rot="10800000">
              <a:off x="3606840" y="5660640"/>
              <a:ext cx="4138560" cy="119700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6200000">
              <a:off x="5013360" y="2727360"/>
              <a:ext cx="6858000" cy="140328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cc99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04880" y="0"/>
              <a:ext cx="4103640" cy="105264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5400000">
              <a:off x="-2619360" y="2619360"/>
              <a:ext cx="6858000" cy="161928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2771640" y="6497640"/>
            <a:ext cx="637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Выполнил: Кондратенко Кирилл Иванович (ДЭФ-102, 03132)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3348000" y="1267920"/>
            <a:ext cx="2663640" cy="6121440"/>
          </a:xfrm>
          <a:prstGeom prst="ellipse">
            <a:avLst/>
          </a:prstGeom>
          <a:gradFill rotWithShape="0">
            <a:gsLst>
              <a:gs pos="0">
                <a:srgbClr val="996600"/>
              </a:gs>
              <a:gs pos="100000">
                <a:srgbClr val="cc99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16360" y="1052640"/>
            <a:ext cx="3097440" cy="460836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fefefe">
                  <a:alpha val="0"/>
                </a:srgbClr>
              </a:gs>
              <a:gs pos="50000">
                <a:srgbClr val="cc9900"/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47640" y="1052640"/>
            <a:ext cx="3097440" cy="4608360"/>
          </a:xfrm>
          <a:prstGeom prst="triangle">
            <a:avLst>
              <a:gd name="adj" fmla="val 100000"/>
            </a:avLst>
          </a:prstGeom>
          <a:gradFill rotWithShape="0">
            <a:gsLst>
              <a:gs pos="0">
                <a:srgbClr val="fefefe">
                  <a:alpha val="0"/>
                </a:srgbClr>
              </a:gs>
              <a:gs pos="50000">
                <a:srgbClr val="cc9900"/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5219280" y="1052280"/>
            <a:ext cx="2521080" cy="460836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fefefe">
                  <a:alpha val="0"/>
                </a:srgbClr>
              </a:gs>
              <a:gs pos="50000">
                <a:srgbClr val="cc9900"/>
              </a:gs>
              <a:gs pos="100000">
                <a:srgbClr val="fefef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0800000">
            <a:off x="1618920" y="1052280"/>
            <a:ext cx="2376360" cy="4608360"/>
          </a:xfrm>
          <a:prstGeom prst="triangle">
            <a:avLst>
              <a:gd name="adj" fmla="val 100000"/>
            </a:avLst>
          </a:prstGeom>
          <a:gradFill rotWithShape="0">
            <a:gsLst>
              <a:gs pos="0">
                <a:srgbClr val="fefefe">
                  <a:alpha val="0"/>
                </a:srgbClr>
              </a:gs>
              <a:gs pos="50000">
                <a:srgbClr val="cc9900"/>
              </a:gs>
              <a:gs pos="100000">
                <a:srgbClr val="fefef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2195280" y="404640"/>
            <a:ext cx="1728720" cy="3024360"/>
          </a:xfrm>
          <a:prstGeom prst="ellipse">
            <a:avLst/>
          </a:prstGeom>
          <a:gradFill rotWithShape="0">
            <a:gsLst>
              <a:gs pos="0">
                <a:srgbClr val="996600"/>
              </a:gs>
              <a:gs pos="100000">
                <a:srgbClr val="cc99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5435640" y="476280"/>
            <a:ext cx="1728720" cy="2881440"/>
          </a:xfrm>
          <a:prstGeom prst="ellipse">
            <a:avLst/>
          </a:prstGeom>
          <a:gradFill rotWithShape="0">
            <a:gsLst>
              <a:gs pos="0">
                <a:srgbClr val="996600"/>
              </a:gs>
              <a:gs pos="100000">
                <a:srgbClr val="cc99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619280" y="981000"/>
            <a:ext cx="612144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6600"/>
                </a:solidFill>
                <a:latin typeface="Book Antiqua"/>
              </a:rPr>
              <a:t>Числовые, </a:t>
            </a:r>
            <a:endParaRPr b="0" lang="en-US" sz="44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6600"/>
                </a:solidFill>
                <a:latin typeface="Book Antiqua"/>
              </a:rPr>
              <a:t>Функциональные</a:t>
            </a:r>
            <a:endParaRPr b="0" lang="en-US" sz="44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6600"/>
                </a:solidFill>
                <a:latin typeface="Book Antiqua"/>
              </a:rPr>
              <a:t>и</a:t>
            </a:r>
            <a:endParaRPr b="0" lang="en-US" sz="44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6600"/>
                </a:solidFill>
                <a:latin typeface="Book Antiqua"/>
              </a:rPr>
              <a:t>Степенные ряды.</a:t>
            </a:r>
            <a:endParaRPr b="0" lang="en-US" sz="4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cde7"/>
            </a:gs>
            <a:gs pos="50000">
              <a:srgbClr val="a9b6eb"/>
            </a:gs>
            <a:gs pos="100000">
              <a:srgbClr val="cdcde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32040" y="404640"/>
            <a:ext cx="724032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гральный признак Коши-Маклор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9807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Пусть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- числовой ряд с положительными числами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Теорема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. Пусть члены ряда удовлетворяют следующим условиям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Составляют монотонную невозрастающую последовательность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Можно построить монотонную невозрастающую функцию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y=f(x)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такую, что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Несобственный интеграл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- сходится, тогда заданный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ряд также сходиться. Если же интеграл расходится , то и ряд расходится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476360" y="1773360"/>
                <a:ext cx="68436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11280" y="3429000"/>
                <a:ext cx="36003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484360" y="4149720"/>
                <a:ext cx="50418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;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067280" y="4653000"/>
                <a:ext cx="10094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cde7"/>
            </a:gs>
            <a:gs pos="50000">
              <a:srgbClr val="a9b6eb"/>
            </a:gs>
            <a:gs pos="100000">
              <a:srgbClr val="cdcde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2040" y="404640"/>
            <a:ext cx="724032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знак Лейб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497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Если члены знакочередующегося ряда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316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-U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+U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-U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+…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монотонно убывают по абсолютной величине т.е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316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Arial"/>
              </a:rPr>
              <a:t>≥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Arial"/>
              </a:rPr>
              <a:t>≥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Arial"/>
              </a:rPr>
              <a:t>≥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Arial"/>
              </a:rPr>
              <a:t>≥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…U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Arial"/>
              </a:rPr>
              <a:t>≥U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  <a:ea typeface="Arial"/>
              </a:rPr>
              <a:t>n+1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Arial"/>
              </a:rPr>
              <a:t>≥…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и общий член ряда стремится к нулю,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то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Ряд сходится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Его сумма не превосходит величины первого члена ряда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Модуль суммы остатка ряда не превосходит абсолютной величины первого отброшенного члена (первого члена остатка)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и имеет знак своего первого члена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500720" y="2924280"/>
                <a:ext cx="12236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755640" y="4065480"/>
                <a:ext cx="266400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nary>
                    <m:r>
                      <m:t xml:space="preserve">&lt;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826920" y="5519880"/>
                <a:ext cx="288144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≤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; 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cde7"/>
            </a:gs>
            <a:gs pos="50000">
              <a:srgbClr val="a9b6eb"/>
            </a:gs>
            <a:gs pos="100000">
              <a:srgbClr val="cdcde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32040" y="404640"/>
            <a:ext cx="724032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бсолютная и условная сходимость ря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000" y="19807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Рассмотрим произвольный знакопеременный ряд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+…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+…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т.е. ряд с членами произвольных знаков. Рассмотрим ряд составленный из абсолютных величин членов ряда (3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|U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|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|U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| + …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|U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| 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+…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(4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Теорема.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Если сходится ряд (4) то сходится и ряд (3)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Если ряд (3) сходится вместе с рядом (4), то про ряд (3) говорят, что он сходится </a:t>
            </a: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абсолютно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Если ряд (3) сходится, а ряд (4) расходится, то ряд (3) сходится </a:t>
            </a: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условно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Теорема.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 Если ряд сходится абсолютно, то он остаётся абсолютно сходящимся при любой перестановке его членов, причём сумма ряда не зависит от порядка его членов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cde7"/>
            </a:gs>
            <a:gs pos="50000">
              <a:srgbClr val="a9b6eb"/>
            </a:gs>
            <a:gs pos="100000">
              <a:srgbClr val="cdcde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2040" y="404640"/>
            <a:ext cx="724032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бсолютная и условная сходимость ря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000" y="19807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Теорема(продолжение)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Если ряд сходится условно, то какое бы мы ни задали число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,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или символ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±∞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Arial"/>
              </a:rPr>
              <a:t> , можно так переставить члены этого ряда, чтобы его сумма оказалась в точности равной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A (±∞)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Arial"/>
              </a:rPr>
              <a:t>Более того, можно так переставить члены условно сходящегося ряда, что ряд, полученный после перестановки членов окажется расходящимся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cde7"/>
            </a:gs>
            <a:gs pos="50000">
              <a:srgbClr val="a9b6eb"/>
            </a:gs>
            <a:gs pos="100000">
              <a:srgbClr val="cdcde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32040" y="404640"/>
            <a:ext cx="724032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ункциональные ряды. Область сходимости. Степенные ря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000" y="19807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Функциональным рядом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называется выражение: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)+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+…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+…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, Члены которого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,U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,…,U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,…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являются функциями от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x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Давая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x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числовое значение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мы получаем числовой ряд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)+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+…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+…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который может быть как сходящимся, так и расходящимся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Множество тех значений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x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при которых функциональный ряд сходится, называется его </a:t>
            </a: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область сходимости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. В области сходимости сумма (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(x)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) функционального ряда является некоторой функцией от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x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Выделяют особый класс функциональных рядов – степенные ряды вида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(5)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39640" y="6165720"/>
                <a:ext cx="52563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cde7"/>
            </a:gs>
            <a:gs pos="50000">
              <a:srgbClr val="a9b6eb"/>
            </a:gs>
            <a:gs pos="100000">
              <a:srgbClr val="cdcde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32040" y="404640"/>
            <a:ext cx="724032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орема Аб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000" y="19807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Теорема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Если степенной ряд (5) сходится в точке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292929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≠ 0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Arial"/>
              </a:rPr>
              <a:t>, то он сходится абсолютно в интервале (-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|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292929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|,|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292929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|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Arial"/>
              </a:rPr>
              <a:t>), т.е. при всех значениях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x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Arial"/>
              </a:rPr>
              <a:t>, удовлетворяющих условию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|x|&lt;|x</a:t>
            </a:r>
            <a:r>
              <a:rPr b="0" lang="en-US" sz="2000" spc="-1" strike="noStrike" baseline="-25000">
                <a:solidFill>
                  <a:srgbClr val="292929"/>
                </a:solidFill>
                <a:latin typeface="Arial"/>
                <a:ea typeface="Arial"/>
              </a:rPr>
              <a:t>0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|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  <a:ea typeface="Arial"/>
              </a:rPr>
              <a:t>Следствие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Arial"/>
              </a:rPr>
              <a:t>Если степенной ряд расходится при некотором значении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x=x</a:t>
            </a:r>
            <a:r>
              <a:rPr b="0" lang="en-US" sz="2000" spc="-1" strike="noStrike" baseline="-25000">
                <a:solidFill>
                  <a:srgbClr val="292929"/>
                </a:solidFill>
                <a:latin typeface="Arial"/>
                <a:ea typeface="Arial"/>
              </a:rPr>
              <a:t>1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Arial"/>
              </a:rPr>
              <a:t>, то он расходится при всех значениях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|x|&gt;|x</a:t>
            </a:r>
            <a:r>
              <a:rPr b="0" lang="en-US" sz="2000" spc="-1" strike="noStrike" baseline="-25000">
                <a:solidFill>
                  <a:srgbClr val="292929"/>
                </a:solidFill>
                <a:latin typeface="Arial"/>
                <a:ea typeface="Arial"/>
              </a:rPr>
              <a:t>1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|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Arial"/>
              </a:rPr>
              <a:t>Любой степенной ряд сходится при значении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x=0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Arial"/>
              </a:rPr>
              <a:t> и расходится при остальных значениях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x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Arial"/>
              </a:rPr>
              <a:t>Ряд может сходится на всей числовой оси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 Ox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cde7"/>
            </a:gs>
            <a:gs pos="50000">
              <a:srgbClr val="a9b6eb"/>
            </a:gs>
            <a:gs pos="100000">
              <a:srgbClr val="cdcde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32040" y="404640"/>
            <a:ext cx="724032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диус сходим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000" y="19807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Радиусом сходимости степенного ряда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(5) называется такое число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, что для всех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x, |x|&lt;R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, степенной ряд сходится, а для всех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x, |x|&gt;R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– расходится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=0 –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если ряд расходится при всех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x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отличных от нуля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=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Arial"/>
              </a:rPr>
              <a:t>∞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 -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Arial"/>
              </a:rPr>
              <a:t>если ряд сходится вообще при всех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x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  <a:ea typeface="Arial"/>
              </a:rPr>
              <a:t>Теорема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Arial"/>
              </a:rPr>
              <a:t>Если все коэффициенты степенного ряда, начиная с некоторого, отличны от нуля, то его радиус сходимости равен пределу при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n→∞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Arial"/>
              </a:rPr>
              <a:t>отношения абсолютных величин коэффициентов общего и следующего за ним члена ряда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cde7"/>
            </a:gs>
            <a:gs pos="50000">
              <a:srgbClr val="a9b6eb"/>
            </a:gs>
            <a:gs pos="100000">
              <a:srgbClr val="cdcde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32040" y="404640"/>
            <a:ext cx="724032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йства степенных ря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000" y="19807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Для степенных рядов справедливы следующие утверждения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Теорема1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Степенной ряд в интервале его сходимости можно почленно дифференцировать неограниченно число раз, причём получающиеся при этом степенные ряды имеют тот же радиус сходимости, что и исходный ряд, а суммы их соответственно равны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’(x), S’’(x),…,S</a:t>
            </a:r>
            <a:r>
              <a:rPr b="0" lang="en-US" sz="1800" spc="-1" strike="noStrike" baseline="30000">
                <a:solidFill>
                  <a:srgbClr val="292929"/>
                </a:solidFill>
                <a:latin typeface="Arial"/>
              </a:rPr>
              <a:t>(n)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(x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Теорема2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Степенной ряд можно неограниченное число раз почленно интегрировать в пределах от 0 до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, если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    ,причём получающиеся при этом степенные ряды имеют тот же радиус сходимости, что и исходный ряд, а суммы их соответственно равны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924360" y="4819680"/>
                <a:ext cx="122400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556000" y="5661000"/>
                <a:ext cx="345744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, </m:t>
                        </m:r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x</m:t>
                                </m:r>
                              </m:sup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cde7"/>
            </a:gs>
            <a:gs pos="50000">
              <a:srgbClr val="a9b6eb"/>
            </a:gs>
            <a:gs pos="100000">
              <a:srgbClr val="cdcde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32040" y="404640"/>
            <a:ext cx="724032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000" y="19807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Найти радиус сходимости степенного ряд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Решение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Радиус сходимости – вся числовая ось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611280" y="2492280"/>
                <a:ext cx="23050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39640" y="4148280"/>
                <a:ext cx="7488360" cy="18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cde7"/>
            </a:gs>
            <a:gs pos="50000">
              <a:srgbClr val="a9b6eb"/>
            </a:gs>
            <a:gs pos="100000">
              <a:srgbClr val="cdcde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32040" y="404640"/>
            <a:ext cx="724032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000" y="19807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Найти область сходимости степенного ряд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Решение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Радиус сходимости равен нулю – ряд сходится только при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x=0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539640" y="2492280"/>
                <a:ext cx="352908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!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39640" y="4194000"/>
                <a:ext cx="7128000" cy="15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!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!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cde7"/>
            </a:gs>
            <a:gs pos="50000">
              <a:srgbClr val="a9b6eb"/>
            </a:gs>
            <a:gs pos="100000">
              <a:srgbClr val="cdcde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2040" y="404640"/>
            <a:ext cx="724032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ловые ряды. Основные поня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9807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Пусть задана некоторая бесконечная последовательность чисел: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,U</a:t>
            </a:r>
            <a:r>
              <a:rPr b="0" lang="en-US" sz="20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,…,U</a:t>
            </a:r>
            <a:r>
              <a:rPr b="0" lang="en-US" sz="2000" spc="-1" strike="noStrike" baseline="-25000">
                <a:solidFill>
                  <a:srgbClr val="292929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,…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(1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Составленный из этих чисел символ (формальное выражение):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+ U</a:t>
            </a:r>
            <a:r>
              <a:rPr b="0" lang="en-US" sz="2000" spc="-1" strike="noStrike" baseline="-25000">
                <a:solidFill>
                  <a:srgbClr val="292929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+…+ U</a:t>
            </a:r>
            <a:r>
              <a:rPr b="0" lang="en-US" sz="2000" spc="-1" strike="noStrike" baseline="-25000">
                <a:solidFill>
                  <a:srgbClr val="292929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+…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 (2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Является бесконечным числовым рядом. Его также можно записать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как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выражение: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    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Числа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,U</a:t>
            </a:r>
            <a:r>
              <a:rPr b="0" lang="en-US" sz="20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,…,U</a:t>
            </a:r>
            <a:r>
              <a:rPr b="0" lang="en-US" sz="2000" spc="-1" strike="noStrike" baseline="-25000">
                <a:solidFill>
                  <a:srgbClr val="292929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,…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- называются членами ряда, а член ряда, стоящий на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-ом месте от начала – </a:t>
            </a:r>
            <a:r>
              <a:rPr b="0" lang="ru-RU" sz="2000" spc="-1" strike="noStrike" u="sng">
                <a:solidFill>
                  <a:srgbClr val="292929"/>
                </a:solidFill>
                <a:uFillTx/>
                <a:latin typeface="Arial"/>
              </a:rPr>
              <a:t>общим членом ряда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Задать ряд – значит указать правило, закон образования его членов, по которому можно найти любой его член. Ряд можно задать формулой его общего члена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741760" y="3573360"/>
                <a:ext cx="8222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cde7"/>
            </a:gs>
            <a:gs pos="50000">
              <a:srgbClr val="a9b6eb"/>
            </a:gs>
            <a:gs pos="100000">
              <a:srgbClr val="cdcde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2040" y="404640"/>
            <a:ext cx="724032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ловые ряды. Основные поня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000" y="1980720"/>
            <a:ext cx="8064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Определение1.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Частичной суммой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292929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числового ряда называется сумма его первых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n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слагаемых, т.е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Определение2. 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Суммой числового ряда называется предел последовательности его частичных сумм, если этот предел существует: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Если этот предел существует, то исходный ряд называется 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ходящимся.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Если этот предел не существует или равен бесконечности, то исходный ряд называют 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расходящимся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611280" y="2708280"/>
                <a:ext cx="741672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987640" y="4869000"/>
                <a:ext cx="172872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cde7"/>
            </a:gs>
            <a:gs pos="50000">
              <a:srgbClr val="a9b6eb"/>
            </a:gs>
            <a:gs pos="100000">
              <a:srgbClr val="cdcde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2040" y="404640"/>
            <a:ext cx="724032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теор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Если в ряде (2) отбросить первые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m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членов, то получится ряд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Называемый остатком ряда (2) после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m-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ого члена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499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Если сходится исходный ряд, то сходится и любой из его остатков; обратно – из сходимости остатка вытекает сходимость исходного ряда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499"/>
              </a:spcBef>
              <a:buClr>
                <a:srgbClr val="cc9900"/>
              </a:buClr>
              <a:buSzPct val="7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Если ряд (2) сходится, то сумма </a:t>
            </a:r>
            <a:r>
              <a:rPr b="0" lang="el-GR" sz="2000" spc="-1" strike="noStrike">
                <a:solidFill>
                  <a:srgbClr val="292929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292929"/>
                </a:solidFill>
                <a:latin typeface="Arial"/>
                <a:ea typeface="Arial"/>
              </a:rPr>
              <a:t>m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Arial"/>
              </a:rPr>
              <a:t>его остатка после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m-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Arial"/>
              </a:rPr>
              <a:t>ого члена с возрастанием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m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Arial"/>
              </a:rPr>
              <a:t> стремится к нулю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499"/>
              </a:spcBef>
              <a:buClr>
                <a:srgbClr val="cc9900"/>
              </a:buClr>
              <a:buSzPct val="7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Arial"/>
              </a:rPr>
              <a:t>Если члены сходящегося ряда (2) умножить на один и тот же множитель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 C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Arial"/>
              </a:rPr>
              <a:t>, то его сходимость не нарушиться (а сумма возрастёт кратно С)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276720" y="1773360"/>
                <a:ext cx="432108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cde7"/>
            </a:gs>
            <a:gs pos="50000">
              <a:srgbClr val="a9b6eb"/>
            </a:gs>
            <a:gs pos="100000">
              <a:srgbClr val="cdcde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2040" y="404640"/>
            <a:ext cx="724032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теор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19807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Два сходящихся ряда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Можно почленно складывать (или вычитать), так что ряд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также сходится и его сумма соответственно равна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± B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Arial"/>
              </a:rPr>
              <a:t>Общий член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U</a:t>
            </a:r>
            <a:r>
              <a:rPr b="0" lang="en-US" sz="2000" spc="-1" strike="noStrike" baseline="-25000">
                <a:solidFill>
                  <a:srgbClr val="292929"/>
                </a:solidFill>
                <a:latin typeface="Arial"/>
                <a:ea typeface="Arial"/>
              </a:rPr>
              <a:t>n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Arial"/>
              </a:rPr>
              <a:t>сходящегося ряда стремится к нулю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  <a:ea typeface="Arial"/>
              </a:rPr>
              <a:t>Следствие.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Arial"/>
              </a:rPr>
              <a:t> Если предел общего числа ряда при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n→∞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Arial"/>
              </a:rPr>
              <a:t>не равен нулю, то данный ряд расходится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780000" y="2349360"/>
                <a:ext cx="26636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11280" y="2349360"/>
                <a:ext cx="280836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826920" y="3127320"/>
                <a:ext cx="61930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±</m:t>
                    </m:r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±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±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±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±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cde7"/>
            </a:gs>
            <a:gs pos="50000">
              <a:srgbClr val="a9b6eb"/>
            </a:gs>
            <a:gs pos="100000">
              <a:srgbClr val="cdcde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2040" y="404640"/>
            <a:ext cx="724032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ходимость положительных ря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19807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Пусть ряд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будет положительным, т.е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292929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&gt;0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n=1,2,3,…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Тогда,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292929"/>
                </a:solidFill>
                <a:latin typeface="Arial"/>
              </a:rPr>
              <a:t>n+1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=A</a:t>
            </a:r>
            <a:r>
              <a:rPr b="0" lang="en-US" sz="2000" spc="-1" strike="noStrike" baseline="-25000">
                <a:solidFill>
                  <a:srgbClr val="292929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+a</a:t>
            </a:r>
            <a:r>
              <a:rPr b="0" lang="en-US" sz="2000" spc="-1" strike="noStrike" baseline="-25000">
                <a:solidFill>
                  <a:srgbClr val="292929"/>
                </a:solidFill>
                <a:latin typeface="Arial"/>
              </a:rPr>
              <a:t>n+1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&gt; A</a:t>
            </a:r>
            <a:r>
              <a:rPr b="0" lang="en-US" sz="2000" spc="-1" strike="noStrike" baseline="-25000">
                <a:solidFill>
                  <a:srgbClr val="292929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, т.е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292929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оказывается возрастающей. Опираясь теорему о пределе монотонной последовательности, можно сделать вывод, что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Положительный ряд всегда имеет сумму , эта сумма будет </a:t>
            </a:r>
            <a:r>
              <a:rPr b="0" lang="ru-RU" sz="2000" spc="-1" strike="noStrike" u="sng">
                <a:solidFill>
                  <a:srgbClr val="292929"/>
                </a:solidFill>
                <a:uFillTx/>
                <a:latin typeface="Arial"/>
              </a:rPr>
              <a:t>конечной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(ряд - сходящимся), если частичные суммы ряда ограничены сверху, и, в противном случае, </a:t>
            </a:r>
            <a:r>
              <a:rPr b="0" lang="ru-RU" sz="2000" spc="-1" strike="noStrike" u="sng">
                <a:solidFill>
                  <a:srgbClr val="292929"/>
                </a:solidFill>
                <a:uFillTx/>
                <a:latin typeface="Arial"/>
              </a:rPr>
              <a:t>бесконечной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(ряд - расходящимся)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908000" y="1797120"/>
                <a:ext cx="302436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cde7"/>
            </a:gs>
            <a:gs pos="50000">
              <a:srgbClr val="a9b6eb"/>
            </a:gs>
            <a:gs pos="100000">
              <a:srgbClr val="cdcde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2040" y="404640"/>
            <a:ext cx="724032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оремы сравнения ря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000" y="19807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Теорема1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Пусть даны два ряда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Если, начиная с некоторого члена, выполняется неравенство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Arial"/>
              </a:rPr>
              <a:t>≤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,то из сходимости ряда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(B)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следует сходимость ряда (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) , а из расходимости ряда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(A)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следует расходимость ряда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(B)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Теорема2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Если существует предел (при условии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Arial"/>
              </a:rPr>
              <a:t>≠0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То из сходимости ряда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(B)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, при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K&lt;+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Arial"/>
              </a:rPr>
              <a:t>∞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  <a:ea typeface="Arial"/>
              </a:rPr>
              <a:t>, вытекает сходимость ряда (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Arial"/>
              </a:rPr>
              <a:t>A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  <a:ea typeface="Arial"/>
              </a:rPr>
              <a:t>); из расходимости ряда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Arial"/>
              </a:rPr>
              <a:t>(A)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  <a:ea typeface="Arial"/>
              </a:rPr>
              <a:t>, при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Arial"/>
              </a:rPr>
              <a:t>K&gt;0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  <a:ea typeface="Arial"/>
              </a:rPr>
              <a:t>, вытекает расходимость ряда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Arial"/>
              </a:rPr>
              <a:t>(B)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755640" y="2565360"/>
                <a:ext cx="3375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0" y="4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483080" y="2565360"/>
                <a:ext cx="3402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898560" y="5065560"/>
                <a:ext cx="324180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K</m:t>
                    </m:r>
                    <m:r>
                      <m:t xml:space="preserve">≤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cde7"/>
            </a:gs>
            <a:gs pos="50000">
              <a:srgbClr val="a9b6eb"/>
            </a:gs>
            <a:gs pos="100000">
              <a:srgbClr val="cdcde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32040" y="404640"/>
            <a:ext cx="724032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знаки Даламбера и Кош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19807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Признак Даламбера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Пусть для числового ряда с положительными членами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Существует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, то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при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&lt;1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ряд сходится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при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&gt;1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ряд расходится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при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=1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признак не даёт ответа на вопрос о сходимости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11280" y="2752560"/>
                <a:ext cx="40320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nary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195640" y="3481560"/>
                <a:ext cx="151272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cde7"/>
            </a:gs>
            <a:gs pos="50000">
              <a:srgbClr val="a9b6eb"/>
            </a:gs>
            <a:gs pos="100000">
              <a:srgbClr val="cdcde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32040" y="404640"/>
            <a:ext cx="724032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знаки Даламбера и Кош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000" y="19807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Признак Коши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Если существует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то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при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&lt;1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ряд сходится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при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&gt;1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ряд расходится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при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=1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– данный признак не отвечает на вопрос о сходимости ряда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771640" y="2133720"/>
                <a:ext cx="2016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ad>
                      <m:deg>
                        <m:r>
                          <m:t xml:space="preserve">n</m:t>
                        </m:r>
                      </m:deg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rad>
                    <m:r>
                      <m:t xml:space="preserve">=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iory</dc:creator>
  <dc:description/>
  <dc:language>en-US</dc:language>
  <cp:lastModifiedBy>Кондратенко Кирилл Иванович</cp:lastModifiedBy>
  <dcterms:modified xsi:type="dcterms:W3CDTF">2004-06-03T21:43:29Z</dcterms:modified>
  <cp:revision>36</cp:revision>
  <dc:subject/>
  <dc:title>PowerPoint Presentation</dc:title>
</cp:coreProperties>
</file>