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200"/>
            </a:b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Управление денежными средствами </a:t>
            </a:r>
            <a:endParaRPr b="1" i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дель Баумо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.В, Ковалев, «Введение в финансовый менеджмент», стр.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5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полагается, что предприятие начинает работать, имея максимальный и целесообразный для него уровень денежных средств, и затем постоянно расходует их в течение некоторого периода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поступающие средства от реализации товаров и услуг предприятие вкладывает в краткосрочные ценные бумаги. Как только запас денежных средств истощается (равен нулю или достиг заданног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вня безопас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предприятие продает часть ценных бумаг и пополняет запас денежных средств до первоначальной велич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намика остатка средств на расчетном сч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8600" y="1142640"/>
            <a:ext cx="4343040" cy="2743200"/>
            <a:chOff x="228600" y="1142640"/>
            <a:chExt cx="4343040" cy="2743200"/>
          </a:xfrm>
        </p:grpSpPr>
        <p:sp>
          <p:nvSpPr>
            <p:cNvPr id="116" name=""/>
            <p:cNvSpPr/>
            <p:nvPr/>
          </p:nvSpPr>
          <p:spPr>
            <a:xfrm flipV="1">
              <a:off x="914040" y="11426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4040" y="3200400"/>
              <a:ext cx="3200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040" y="2055960"/>
              <a:ext cx="2743200" cy="1144440"/>
            </a:xfrm>
            <a:custGeom>
              <a:avLst/>
              <a:gdLst/>
              <a:ahLst/>
              <a:rect l="l" t="t" r="r" b="b"/>
              <a:pathLst>
                <a:path w="2160" h="900">
                  <a:moveTo>
                    <a:pt x="0" y="0"/>
                  </a:moveTo>
                  <a:lnTo>
                    <a:pt x="540" y="900"/>
                  </a:lnTo>
                  <a:lnTo>
                    <a:pt x="540" y="0"/>
                  </a:lnTo>
                  <a:lnTo>
                    <a:pt x="1080" y="900"/>
                  </a:lnTo>
                  <a:lnTo>
                    <a:pt x="1080" y="0"/>
                  </a:lnTo>
                  <a:lnTo>
                    <a:pt x="1620" y="900"/>
                  </a:lnTo>
                  <a:lnTo>
                    <a:pt x="1620" y="0"/>
                  </a:lnTo>
                  <a:lnTo>
                    <a:pt x="2160" y="9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040" y="2638800"/>
              <a:ext cx="2971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14040" y="1143000"/>
              <a:ext cx="6858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" y="2286000"/>
              <a:ext cx="914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Q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7560" y="3200400"/>
              <a:ext cx="12340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바탕"/>
                </a:rPr>
                <a:t>Врем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3" name=""/>
          <p:cNvGraphicFramePr/>
          <p:nvPr/>
        </p:nvGraphicFramePr>
        <p:xfrm>
          <a:off x="609480" y="4268880"/>
          <a:ext cx="2657520" cy="12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268880"/>
                    <a:ext cx="2657520" cy="12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343400" y="1066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143000"/>
            <a:ext cx="4191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пополн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нозируемая потребность в денежных средствах в перио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– единовременные расходы по конвертации денежных средств в ценные бума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емлемый и возможный для предприятия процентный доход по краткосрочным вложениям (в гос. ценные бумаг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е количество сделок по конвертации ценных бумаг в денежные сред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расходы по реализации модельной политики управления денежными сред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0" y="1293840"/>
          <a:ext cx="441972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3840"/>
                    <a:ext cx="441972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нежные расходы компании в течение года = 1,5 млн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нтная ставка по государственным ценным бумагам 8%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раты, связанные с реализацией 25 до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читать потребность в денежных средствах, количество сделок по транс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09480" y="1600200"/>
          <a:ext cx="800100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00100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ий размер денежных средств на расчетном счете = 15,309 тыс. дол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сделок по трансформации ценных бумаг в денежные средства за г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81080" y="5334120"/>
          <a:ext cx="5183280" cy="13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334120"/>
                    <a:ext cx="518328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еализации данной политики потери от хранения средств на расчетном счете вместо того, чтобы инвестировать их в ценные бумаги состав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057400" y="3200400"/>
          <a:ext cx="441972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00400"/>
                    <a:ext cx="441972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33520" y="44956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ие расходы по реализации такой политики составя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5486400"/>
          <a:ext cx="792504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486400"/>
                    <a:ext cx="79250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итика компании по управлению денежными средствами и их эквивалентами: когда средства на расчетном счете истощаются – компания должна продать часть своих ликвидных ценных бумаг на сумму около  30 тыс. до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ая операция будет выполняться примерно раз в неде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ер денежных средств на расчетном счете будет колебаться в пределах от 15 до 30 тыс. дол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единовременные расходы по взаимной конвертации денежных средств и ликвидных ценных бумаг велики, рекомендуется иметь больший целевой остат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расходы по хранению денежных средств, принимаемые в размере упущенной выгоды (недополученный процент по безрисковым финансовым активам) велики, рекомендуется поддерживать относительно небольшой целевой оста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12-21T05:10:48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