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дебиторской задолженностью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собенности управления дебиторской задолжен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Введение в финансовый менеджмент», стр. 7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считать потери от инфляции за период с поставки продукции до момента платежа, если ежемесячный темп инфляции составляет 2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ериода в 5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периода в 2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1147680"/>
          <a:ext cx="281916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7680"/>
                    <a:ext cx="281916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33520" y="3276720"/>
            <a:ext cx="8153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pc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падения покупательной способности денежной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(d)(pr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евной темп изменения цен в долях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ст цен в д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371600"/>
          <a:ext cx="8229600" cy="25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25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читаем потери от инфляции для 50 и для 20 д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666880"/>
          <a:ext cx="601992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6019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438280" y="4762440"/>
          <a:ext cx="647712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762440"/>
                    <a:ext cx="647712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18:28:5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