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600"/>
            </a:br>
            <a:r>
              <a:rPr b="1" i="1" lang="ru-RU" sz="3000" spc="-1" strike="noStrike">
                <a:solidFill>
                  <a:srgbClr val="008000"/>
                </a:solidFill>
                <a:latin typeface="Arial"/>
              </a:rPr>
              <a:t>Управление запасами</a:t>
            </a:r>
            <a:endParaRPr b="1" i="1" lang="en-US" sz="3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птимальный размер заказа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OQ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, задача 11.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В, Ковалев, «Практикум по анализу и финансовому менеджменту», стр.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7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читать оптимальный размер заказ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Q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ребуемое количество заказов, есл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выполнения одной партии заказа равна 20 дол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овая потребность в сырье = 2000 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по хранению = 10% цены приобретения (2 дол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орму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чет оптимальной партии зака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14600" y="2057400"/>
          <a:ext cx="403848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057400"/>
                    <a:ext cx="403848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04920" y="4648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Q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ем партии, ед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имость выполнения одной партии зака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 – общая потребность в сырье на период, ед.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 – затраты по хранению единицы сы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1371600"/>
          <a:ext cx="746748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4674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762120" y="33526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тимальный размер партии составит 200 ед. При годовой потребности в 2 000 ед. Необходимо осуществить 10 зак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2-20T09:46:22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