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43640" y="-6858360"/>
            <a:ext cx="18287280" cy="13715640"/>
            <a:chOff x="-9143640" y="-6858360"/>
            <a:chExt cx="18287280" cy="13715640"/>
          </a:xfrm>
        </p:grpSpPr>
        <p:sp>
          <p:nvSpPr>
            <p:cNvPr id="1" name=""/>
            <p:cNvSpPr/>
            <p:nvPr/>
          </p:nvSpPr>
          <p:spPr>
            <a:xfrm flipV="1">
              <a:off x="-9143280" y="-6858720"/>
              <a:ext cx="18287280" cy="137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>
              <a:off x="360" y="-720"/>
              <a:ext cx="9143280" cy="685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4572360" y="3352320"/>
              <a:ext cx="4571280" cy="350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6858360" y="5028480"/>
              <a:ext cx="22852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077320" y="5942880"/>
              <a:ext cx="1066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8534520" y="640008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52280" y="0"/>
            <a:ext cx="8839440" cy="6858000"/>
          </a:xfrm>
          <a:prstGeom prst="rect">
            <a:avLst/>
          </a:prstGeom>
          <a:gradFill rotWithShape="0">
            <a:gsLst>
              <a:gs pos="0">
                <a:srgbClr val="156b13">
                  <a:alpha val="0"/>
                </a:srgbClr>
              </a:gs>
              <a:gs pos="50000">
                <a:srgbClr val="ddebcf"/>
              </a:gs>
              <a:gs pos="100000">
                <a:srgbClr val="156b1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9172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18"/>
            </a:avLst>
          </a:prstGeom>
          <a:gradFill rotWithShape="0">
            <a:gsLst>
              <a:gs pos="0">
                <a:srgbClr val="ddebcf">
                  <a:alpha val="40000"/>
                </a:srgbClr>
              </a:gs>
              <a:gs pos="100000">
                <a:srgbClr val="156b1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1430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28600"/>
            <a:ext cx="838080" cy="838080"/>
            <a:chOff x="228600" y="228600"/>
            <a:chExt cx="838080" cy="838080"/>
          </a:xfrm>
        </p:grpSpPr>
        <p:sp>
          <p:nvSpPr>
            <p:cNvPr id="51" name=""/>
            <p:cNvSpPr/>
            <p:nvPr/>
          </p:nvSpPr>
          <p:spPr>
            <a:xfrm rot="5400000">
              <a:off x="228600" y="22824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609480" y="2282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1904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2286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" y="5791320"/>
            <a:ext cx="838080" cy="838080"/>
            <a:chOff x="228600" y="5791320"/>
            <a:chExt cx="838080" cy="838080"/>
          </a:xfrm>
        </p:grpSpPr>
        <p:sp>
          <p:nvSpPr>
            <p:cNvPr id="56" name=""/>
            <p:cNvSpPr/>
            <p:nvPr/>
          </p:nvSpPr>
          <p:spPr>
            <a:xfrm>
              <a:off x="22860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04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077320" y="228600"/>
            <a:ext cx="838080" cy="838080"/>
            <a:chOff x="8077320" y="228600"/>
            <a:chExt cx="838080" cy="838080"/>
          </a:xfrm>
        </p:grpSpPr>
        <p:sp>
          <p:nvSpPr>
            <p:cNvPr id="61" name=""/>
            <p:cNvSpPr/>
            <p:nvPr/>
          </p:nvSpPr>
          <p:spPr>
            <a:xfrm rot="10800000">
              <a:off x="8077320" y="22860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84582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826776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8077320" y="2286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077320" y="5791320"/>
            <a:ext cx="838080" cy="838080"/>
            <a:chOff x="8077320" y="5791320"/>
            <a:chExt cx="838080" cy="838080"/>
          </a:xfrm>
        </p:grpSpPr>
        <p:sp>
          <p:nvSpPr>
            <p:cNvPr id="66" name=""/>
            <p:cNvSpPr/>
            <p:nvPr/>
          </p:nvSpPr>
          <p:spPr>
            <a:xfrm rot="16200000">
              <a:off x="807732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807732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826776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84582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143000"/>
            <a:ext cx="15238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8000"/>
                </a:solidFill>
                <a:latin typeface="Arial"/>
              </a:rPr>
              <a:t>Финансовый менеджмент: </a:t>
            </a:r>
            <a:br>
              <a:rPr sz="4200"/>
            </a:b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Финансовый леверидж</a:t>
            </a:r>
            <a:endParaRPr b="1" i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0720" y="39625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Расчет Р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Тихомиров, «Финансовый менеджмент», стр. 364-3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1181160" y="278136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ЭФ|40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дратенко К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-914400" y="3124440"/>
            <a:ext cx="4114800" cy="761760"/>
          </a:xfrm>
          <a:prstGeom prst="triangle">
            <a:avLst>
              <a:gd name="adj" fmla="val 52343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а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ционерный капитал ОАО «Фаспром» состоит из 1 млн. обыкновенных акций, по цене 80 рублей за акцию. Чистые активы предприятия полностью профинансированы за счет собственного капит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нтабельность чистых активов = 2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овая прибыль 16 млн. руб. (80*2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тая прибыль = 12, 16 млн. руб. (16*(1-0,24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а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сть в данный момент возможен выпуск облигационного займа в размере 24 млн. руб. под 15% годо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 сумма позволит выкупить у акционеров 30% ак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м чистых активов не измениться, измениться только его структу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им рентабельность С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выпу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ус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832040"/>
          <a:ext cx="746748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32040"/>
                    <a:ext cx="74674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57200" y="3352680"/>
          <a:ext cx="8381880" cy="159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352680"/>
                    <a:ext cx="8381880" cy="15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зменим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7848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им влияние изменения валовой прибыли на показатель РСК. Пусть валовая прибыль фирмы = 10 млн. 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нтабельность чистых активов = 0,125 (10/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480" y="3666960"/>
          <a:ext cx="8305920" cy="15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666960"/>
                    <a:ext cx="830592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анном случае рентабельность снизилась за счет использования заемных средств на (12,5-8,68) 3,82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а? Дифференциал ЭФР дал отрицательный результат, т.к. рентабельность собственных средств ниже процентной ставки по займ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6-10-26T21:33:2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