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активами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Оборачиваемость актив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Практикум по анализу и финансовому менеджменту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стр. 170, задача 11.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в июне выручка бакалейного отдела составила 52 млн. руб, а гастрономического – 41 млн. руб. Оборачиваемость в днях – 35 и 32 дня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рачиваемость запасов в оборотах и днях по магазину в це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зменилась оборачиваемость в оборотах по магазину, если товарооборот за месяц вырос на 10%, а средние запасы снизились на 5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м формулу расчета оборачиваем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3520" y="1676520"/>
          <a:ext cx="81532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33520" y="2971800"/>
          <a:ext cx="7848360" cy="3137040"/>
        </p:xfrm>
        <a:graphic>
          <a:graphicData uri="http://schemas.openxmlformats.org/drawingml/2006/table">
            <a:tbl>
              <a:tblPr/>
              <a:tblGrid>
                <a:gridCol w="1523880"/>
                <a:gridCol w="1676520"/>
                <a:gridCol w="1371600"/>
                <a:gridCol w="1904760"/>
                <a:gridCol w="13716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(дн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ле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строном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га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товарооборот вырос на 10%, а средние запасы снизились на 5%, 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2209680"/>
          <a:ext cx="6705720" cy="21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70572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480" y="4572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 под влиянием указанных факторов оборачиваемость увеличилась на 15,8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16:14:0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