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внеоборотными активами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нализ движения основного капит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Г, Шадрина, «Экономический анализ», стр.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слов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1143000"/>
          <a:ext cx="8229600" cy="4573440"/>
        </p:xfrm>
        <a:graphic>
          <a:graphicData uri="http://schemas.openxmlformats.org/drawingml/2006/table">
            <a:tbl>
              <a:tblPr/>
              <a:tblGrid>
                <a:gridCol w="1112760"/>
                <a:gridCol w="1036440"/>
                <a:gridCol w="1127160"/>
                <a:gridCol w="1036800"/>
                <a:gridCol w="1531800"/>
                <a:gridCol w="1111320"/>
                <a:gridCol w="127332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аличие на начало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Поступило в отчетном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ыбыло  в отчетном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аличие на конец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Наличие на 1 января следующего за отчетным года (остаточная стоим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 т.ч. новых основных сред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В т.ч. ликвидирова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=1+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0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йт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снове приведенных данных рассчитать показатели движения и состояния основного капита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квид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д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н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ОВАвв/ОВАк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50/21080 = 14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ОВАнов/ОВАк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0/21080 = 4,4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ы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ОВАвыб/ОВАн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70/18800 = 4,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ОВАл/ОВАн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0/18800 = 1,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год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ОВАос/ОВАпс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300/21080 = 96,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з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Кгодн-1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18:48:2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