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596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840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596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840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352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596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840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3352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596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840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352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143640" y="-6858360"/>
            <a:ext cx="18287280" cy="13715640"/>
            <a:chOff x="-9143640" y="-6858360"/>
            <a:chExt cx="18287280" cy="13715640"/>
          </a:xfrm>
        </p:grpSpPr>
        <p:sp>
          <p:nvSpPr>
            <p:cNvPr id="1" name=""/>
            <p:cNvSpPr/>
            <p:nvPr/>
          </p:nvSpPr>
          <p:spPr>
            <a:xfrm flipV="1">
              <a:off x="-9143280" y="-6858720"/>
              <a:ext cx="18287280" cy="137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>
              <a:off x="360" y="-720"/>
              <a:ext cx="9143280" cy="685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>
              <a:off x="4572360" y="3352320"/>
              <a:ext cx="4571280" cy="350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6858360" y="5028480"/>
              <a:ext cx="22852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8077320" y="5942880"/>
              <a:ext cx="106632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>
              <a:off x="8534520" y="6400080"/>
              <a:ext cx="609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52280" y="0"/>
            <a:ext cx="8839440" cy="6858000"/>
          </a:xfrm>
          <a:prstGeom prst="rect">
            <a:avLst/>
          </a:prstGeom>
          <a:gradFill rotWithShape="0">
            <a:gsLst>
              <a:gs pos="0">
                <a:srgbClr val="156b13">
                  <a:alpha val="0"/>
                </a:srgbClr>
              </a:gs>
              <a:gs pos="50000">
                <a:srgbClr val="ddebcf"/>
              </a:gs>
              <a:gs pos="100000">
                <a:srgbClr val="156b1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152280" cy="68580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6858000"/>
              <a:gd name="textAreaBottom" fmla="*/ 6850800 h 6858000"/>
            </a:gdLst>
            <a:ahLst/>
            <a:rect l="textAreaLeft" t="textAreaTop" r="textAreaRight" b="textAreaBottom"/>
            <a:pathLst>
              <a:path w="21600" h="970523">
                <a:moveTo>
                  <a:pt x="3600" y="0"/>
                </a:moveTo>
                <a:arcTo wR="3600" hR="3600" stAng="16200000" swAng="-5400000"/>
                <a:lnTo>
                  <a:pt x="0" y="966923"/>
                </a:lnTo>
                <a:arcTo wR="3600" hR="3600" stAng="10800000" swAng="-5400000"/>
                <a:lnTo>
                  <a:pt x="18000" y="970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50000">
                <a:srgbClr val="156b13"/>
              </a:gs>
              <a:gs pos="100000">
                <a:srgbClr val="ddebcf"/>
              </a:gs>
            </a:gsLst>
            <a:lin ang="10800000"/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991720" y="0"/>
            <a:ext cx="152280" cy="68580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6858000"/>
              <a:gd name="textAreaBottom" fmla="*/ 6850800 h 6858000"/>
            </a:gdLst>
            <a:ahLst/>
            <a:rect l="textAreaLeft" t="textAreaTop" r="textAreaRight" b="textAreaBottom"/>
            <a:pathLst>
              <a:path w="21600" h="970523">
                <a:moveTo>
                  <a:pt x="3600" y="0"/>
                </a:moveTo>
                <a:arcTo wR="3600" hR="3600" stAng="16200000" swAng="-5400000"/>
                <a:lnTo>
                  <a:pt x="0" y="966923"/>
                </a:lnTo>
                <a:arcTo wR="3600" hR="3600" stAng="10800000" swAng="-5400000"/>
                <a:lnTo>
                  <a:pt x="18000" y="970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50000">
                <a:srgbClr val="156b13"/>
              </a:gs>
              <a:gs pos="100000">
                <a:srgbClr val="ddebcf"/>
              </a:gs>
            </a:gsLst>
            <a:lin ang="10800000"/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3218"/>
            </a:avLst>
          </a:prstGeom>
          <a:gradFill rotWithShape="0">
            <a:gsLst>
              <a:gs pos="0">
                <a:srgbClr val="ddebcf">
                  <a:alpha val="40000"/>
                </a:srgbClr>
              </a:gs>
              <a:gs pos="100000">
                <a:srgbClr val="156b13"/>
              </a:gs>
            </a:gsLst>
            <a:lin ang="5400000"/>
          </a:gra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440" y="114300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28600" y="228600"/>
            <a:ext cx="838080" cy="838080"/>
            <a:chOff x="228600" y="228600"/>
            <a:chExt cx="838080" cy="838080"/>
          </a:xfrm>
        </p:grpSpPr>
        <p:sp>
          <p:nvSpPr>
            <p:cNvPr id="51" name=""/>
            <p:cNvSpPr/>
            <p:nvPr/>
          </p:nvSpPr>
          <p:spPr>
            <a:xfrm rot="5400000">
              <a:off x="228600" y="22824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5400000">
              <a:off x="609480" y="22824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5400000">
              <a:off x="419040" y="41904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228600" y="60948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" y="5791320"/>
            <a:ext cx="838080" cy="838080"/>
            <a:chOff x="228600" y="5791320"/>
            <a:chExt cx="838080" cy="838080"/>
          </a:xfrm>
        </p:grpSpPr>
        <p:sp>
          <p:nvSpPr>
            <p:cNvPr id="56" name=""/>
            <p:cNvSpPr/>
            <p:nvPr/>
          </p:nvSpPr>
          <p:spPr>
            <a:xfrm>
              <a:off x="228600" y="579132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600" y="579132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9040" y="598176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9480" y="617220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077320" y="228600"/>
            <a:ext cx="838080" cy="838080"/>
            <a:chOff x="8077320" y="228600"/>
            <a:chExt cx="838080" cy="838080"/>
          </a:xfrm>
        </p:grpSpPr>
        <p:sp>
          <p:nvSpPr>
            <p:cNvPr id="61" name=""/>
            <p:cNvSpPr/>
            <p:nvPr/>
          </p:nvSpPr>
          <p:spPr>
            <a:xfrm rot="10800000">
              <a:off x="8077320" y="22860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0800000">
              <a:off x="8458200" y="60948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0800000">
              <a:off x="8267760" y="41904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0800000">
              <a:off x="8077320" y="22860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8077320" y="5791320"/>
            <a:ext cx="838080" cy="838080"/>
            <a:chOff x="8077320" y="5791320"/>
            <a:chExt cx="838080" cy="838080"/>
          </a:xfrm>
        </p:grpSpPr>
        <p:sp>
          <p:nvSpPr>
            <p:cNvPr id="66" name=""/>
            <p:cNvSpPr/>
            <p:nvPr/>
          </p:nvSpPr>
          <p:spPr>
            <a:xfrm rot="16200000">
              <a:off x="8077320" y="579132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6200000">
              <a:off x="8077320" y="617220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6200000">
              <a:off x="8267760" y="598176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8458200" y="579132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04920" y="1143000"/>
            <a:ext cx="15238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440" y="1371240"/>
            <a:ext cx="7010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8000"/>
                </a:solidFill>
                <a:latin typeface="Arial"/>
              </a:rPr>
              <a:t>Финансовый менеджмент: </a:t>
            </a:r>
            <a:br>
              <a:rPr sz="4200"/>
            </a:br>
            <a:r>
              <a:rPr b="1" i="1" lang="ru-RU" sz="2600" spc="-1" strike="noStrike">
                <a:solidFill>
                  <a:srgbClr val="008000"/>
                </a:solidFill>
                <a:latin typeface="Arial"/>
              </a:rPr>
              <a:t>Управление капиталом</a:t>
            </a:r>
            <a:endParaRPr b="1" i="1" lang="en-US" sz="2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80720" y="396252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Расчет ожидаемого уровня рентаб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атериал с семина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 rot="5400000">
            <a:off x="-1181160" y="2781360"/>
            <a:ext cx="449568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ЭФ|403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ндратенко К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-914400" y="3124440"/>
            <a:ext cx="4114800" cy="761760"/>
          </a:xfrm>
          <a:prstGeom prst="triangle">
            <a:avLst>
              <a:gd name="adj" fmla="val 52343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адача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результате инвестирования средств в размере 1500 т.р. предполагается получение прибыли в размере 300 т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вка налога на прибыль составляет 30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вка по банковским кредитам в течение периода инвестиций равно 1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редели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жидаемую рентабель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бственных средств для следующих вариантов источников инвести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использовании только собственных средст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использовании заемных средств в размере 500 т.р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использовании заемных средств в размере 1000 т.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спользование только заемных средст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ономическая рентабельность = 300/1500 = 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8600" y="3581280"/>
          <a:ext cx="8686800" cy="13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581280"/>
                    <a:ext cx="868680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спользование заемных средств (50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1984320"/>
          <a:ext cx="8529480" cy="25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4320"/>
                    <a:ext cx="8529480" cy="25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спользование заемных средств (100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4320"/>
          <a:ext cx="8529480" cy="25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4320"/>
                    <a:ext cx="8529480" cy="25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тве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33520" y="1143000"/>
          <a:ext cx="8229600" cy="5334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7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собственные сред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СС = 14,0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емные (500 т.р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СС = 15,7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емные (1000 т.р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СС = 21,0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6-12-21T15:02:08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