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43640" y="-6858360"/>
            <a:ext cx="18287280" cy="13715640"/>
            <a:chOff x="-9143640" y="-6858360"/>
            <a:chExt cx="18287280" cy="13715640"/>
          </a:xfrm>
        </p:grpSpPr>
        <p:sp>
          <p:nvSpPr>
            <p:cNvPr id="1" name=""/>
            <p:cNvSpPr/>
            <p:nvPr/>
          </p:nvSpPr>
          <p:spPr>
            <a:xfrm flipV="1">
              <a:off x="-9143280" y="-6858720"/>
              <a:ext cx="18287280" cy="137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>
              <a:off x="360" y="-720"/>
              <a:ext cx="9143280" cy="685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>
              <a:off x="4572360" y="3352320"/>
              <a:ext cx="4571280" cy="350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6858360" y="5028480"/>
              <a:ext cx="22852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077320" y="5942880"/>
              <a:ext cx="10663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8534520" y="6400080"/>
              <a:ext cx="609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52280" y="0"/>
            <a:ext cx="8839440" cy="6858000"/>
          </a:xfrm>
          <a:prstGeom prst="rect">
            <a:avLst/>
          </a:prstGeom>
          <a:gradFill rotWithShape="0">
            <a:gsLst>
              <a:gs pos="0">
                <a:srgbClr val="156b13">
                  <a:alpha val="0"/>
                </a:srgbClr>
              </a:gs>
              <a:gs pos="50000">
                <a:srgbClr val="ddebcf"/>
              </a:gs>
              <a:gs pos="100000">
                <a:srgbClr val="156b1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9172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218"/>
            </a:avLst>
          </a:prstGeom>
          <a:gradFill rotWithShape="0">
            <a:gsLst>
              <a:gs pos="0">
                <a:srgbClr val="ddebcf">
                  <a:alpha val="40000"/>
                </a:srgbClr>
              </a:gs>
              <a:gs pos="100000">
                <a:srgbClr val="156b13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1430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28600"/>
            <a:ext cx="838080" cy="838080"/>
            <a:chOff x="228600" y="228600"/>
            <a:chExt cx="838080" cy="838080"/>
          </a:xfrm>
        </p:grpSpPr>
        <p:sp>
          <p:nvSpPr>
            <p:cNvPr id="51" name=""/>
            <p:cNvSpPr/>
            <p:nvPr/>
          </p:nvSpPr>
          <p:spPr>
            <a:xfrm rot="5400000">
              <a:off x="228600" y="22824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609480" y="2282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41904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2286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" y="5791320"/>
            <a:ext cx="838080" cy="838080"/>
            <a:chOff x="228600" y="5791320"/>
            <a:chExt cx="838080" cy="838080"/>
          </a:xfrm>
        </p:grpSpPr>
        <p:sp>
          <p:nvSpPr>
            <p:cNvPr id="56" name=""/>
            <p:cNvSpPr/>
            <p:nvPr/>
          </p:nvSpPr>
          <p:spPr>
            <a:xfrm>
              <a:off x="22860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04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077320" y="228600"/>
            <a:ext cx="838080" cy="838080"/>
            <a:chOff x="8077320" y="228600"/>
            <a:chExt cx="838080" cy="838080"/>
          </a:xfrm>
        </p:grpSpPr>
        <p:sp>
          <p:nvSpPr>
            <p:cNvPr id="61" name=""/>
            <p:cNvSpPr/>
            <p:nvPr/>
          </p:nvSpPr>
          <p:spPr>
            <a:xfrm rot="10800000">
              <a:off x="8077320" y="22860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84582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826776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8077320" y="2286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077320" y="5791320"/>
            <a:ext cx="838080" cy="838080"/>
            <a:chOff x="8077320" y="5791320"/>
            <a:chExt cx="838080" cy="838080"/>
          </a:xfrm>
        </p:grpSpPr>
        <p:sp>
          <p:nvSpPr>
            <p:cNvPr id="66" name=""/>
            <p:cNvSpPr/>
            <p:nvPr/>
          </p:nvSpPr>
          <p:spPr>
            <a:xfrm rot="16200000">
              <a:off x="807732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807732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826776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84582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1143000"/>
            <a:ext cx="15238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8000"/>
                </a:solidFill>
                <a:latin typeface="Arial"/>
              </a:rPr>
              <a:t>Финансовый менеджмент: </a:t>
            </a:r>
            <a:br>
              <a:rPr sz="4200"/>
            </a:br>
            <a:r>
              <a:rPr b="1" i="1" lang="ru-RU" sz="2600" spc="-1" strike="noStrike">
                <a:solidFill>
                  <a:srgbClr val="008000"/>
                </a:solidFill>
                <a:latin typeface="Arial"/>
              </a:rPr>
              <a:t>Управление собственным капиталом</a:t>
            </a:r>
            <a:endParaRPr b="1" i="1" lang="en-US" sz="2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0720" y="396252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ыбор дивидендной политик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.В.Ковалев «Введение в ФМ», стр.6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1181160" y="2781360"/>
            <a:ext cx="44956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ЭФ|40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дратенко К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-914400" y="3124440"/>
            <a:ext cx="4114800" cy="761760"/>
          </a:xfrm>
          <a:prstGeom prst="triangle">
            <a:avLst>
              <a:gd name="adj" fmla="val 52343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стая прибыль компании за год 1,73 млн.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емлемая норма прибыли 1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ется 2 варианта обновления материально-технической ба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3520" y="3886200"/>
          <a:ext cx="8076960" cy="2316240"/>
        </p:xfrm>
        <a:graphic>
          <a:graphicData uri="http://schemas.openxmlformats.org/drawingml/2006/table">
            <a:tbl>
              <a:tblPr/>
              <a:tblGrid>
                <a:gridCol w="2692440"/>
                <a:gridCol w="2692080"/>
                <a:gridCol w="26924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нт реинвестрир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овой темп прирос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1676520" y="2971800"/>
            <a:ext cx="6019560" cy="2590920"/>
          </a:xfrm>
          <a:prstGeom prst="cloudCallout">
            <a:avLst>
              <a:gd name="adj1" fmla="val -1347"/>
              <a:gd name="adj2" fmla="val 87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ая дивидендная политика более предпочтитель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1447920"/>
          <a:ext cx="7772400" cy="3047760"/>
        </p:xfrm>
        <a:graphic>
          <a:graphicData uri="http://schemas.openxmlformats.org/drawingml/2006/table">
            <a:tbl>
              <a:tblPr/>
              <a:tblGrid>
                <a:gridCol w="1782720"/>
                <a:gridCol w="2484720"/>
                <a:gridCol w="3504960"/>
              </a:tblGrid>
              <a:tr h="17697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ивиденд за текущий г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,7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*(1-50%)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,865 млн. руб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,7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*(1-20%)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,384 млн. руб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ешение: определяем цену ак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пределения цены акции (в нашем случае – с равномерно возрастающими дивидендами) воспользуемся формулой Горд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– размер дивид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мп при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жидаемый уровень дох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Формула имеет смысл только при услов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gt;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8120" y="2362320"/>
          <a:ext cx="35049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362320"/>
                    <a:ext cx="35049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асч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3520" y="1905120"/>
          <a:ext cx="833580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05120"/>
                    <a:ext cx="83358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ешение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учетом полученных дивидендов совокупный результат состав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3520" y="2438280"/>
          <a:ext cx="8305560" cy="16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30556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твет - выв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.к. второй вариант максимизирует совокупный доход акционеров, он в большей степени предпочтителен для акционеров, чем перв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6-12-21T05:15:2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