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200"/>
            </a:b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Управление кредиторской задолженностью</a:t>
            </a:r>
            <a:endParaRPr b="1" i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51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Оптимизация условий привлечения коммерческого кредит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.В, Ковалев, «Введение в финансовый менеджмен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,стр. 65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предприятия есть поставщик, у которого покупается сырье на сумму 18 млн. руб. в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говором поставки предусматривается 3% скидка в случае оплаты полученного сырья в течение 10 дн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ксимальный срок оплаты = 45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ить, какой вариант более выгоден для предпри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предприятия есть два вариан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читаться на 10 день и получить скидку – сократить расходы на оплату сырь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азаться от скидки и максимально оттянуть оплату (до предела в 45 дне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ервом случае сокращаются расходы, во втором у предприятия формируется беспроцентная кредиторская задолженность на 35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сче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определения оптимального варианта, рассчитаем ежедневную стоимость дополнительного источника (случай, когда предприятие используется предоставленную скидк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10 дней средняя величина кредиторской задолженности составит 485 тыс.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2819520"/>
          <a:ext cx="8229600" cy="104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19520"/>
                    <a:ext cx="822960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счет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тказе от скидки предприятие оплачивает счета поставщика на 45 день. Кредиторская задолженность состав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42900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ый кред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82,5-485,0=1697,5 тыс. ру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олнительные расходы (недополученная скидка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000 тыс. руб.*3%*100%=54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2209680"/>
          <a:ext cx="830592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3059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счет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имость источника «дополнительная кредиторская задолженность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601992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60199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анном случае целесообразно воспользоваться бесплатным кредитом и платить не ранее 10 д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полученным данным менеджер должен оценить ставку по банковскому кредиту: в нашем случае, если ставка меньше 31,8% - отказ от 3% скидки экономически не выгод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отивном случае этой скидкой можно пренебречь. В равновесном случае выбор будет зависеть от выбранной кредитной поли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11-08T21:31:0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