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596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8400" y="114264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52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596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8400" y="3928680"/>
            <a:ext cx="264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0560" y="392868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142640"/>
            <a:ext cx="4015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28680"/>
            <a:ext cx="8229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43640" y="-6858360"/>
            <a:ext cx="18287280" cy="13715640"/>
            <a:chOff x="-9143640" y="-6858360"/>
            <a:chExt cx="18287280" cy="13715640"/>
          </a:xfrm>
        </p:grpSpPr>
        <p:sp>
          <p:nvSpPr>
            <p:cNvPr id="1" name=""/>
            <p:cNvSpPr/>
            <p:nvPr/>
          </p:nvSpPr>
          <p:spPr>
            <a:xfrm flipV="1">
              <a:off x="-9143280" y="-6858720"/>
              <a:ext cx="18287280" cy="1371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360" y="-720"/>
              <a:ext cx="9143280" cy="685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>
              <a:off x="4572360" y="3352320"/>
              <a:ext cx="4571280" cy="350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6858360" y="5028480"/>
              <a:ext cx="22852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077320" y="5942880"/>
              <a:ext cx="10663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>
              <a:off x="8534520" y="6400080"/>
              <a:ext cx="609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52280" y="0"/>
            <a:ext cx="8839440" cy="6858000"/>
          </a:xfrm>
          <a:prstGeom prst="rect">
            <a:avLst/>
          </a:prstGeom>
          <a:gradFill rotWithShape="0">
            <a:gsLst>
              <a:gs pos="0">
                <a:srgbClr val="156b13">
                  <a:alpha val="0"/>
                </a:srgbClr>
              </a:gs>
              <a:gs pos="50000">
                <a:srgbClr val="ddebcf"/>
              </a:gs>
              <a:gs pos="100000">
                <a:srgbClr val="156b1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991720" y="0"/>
            <a:ext cx="152280" cy="685800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6858000"/>
              <a:gd name="textAreaBottom" fmla="*/ 6850800 h 6858000"/>
            </a:gdLst>
            <a:ahLst/>
            <a:rect l="textAreaLeft" t="textAreaTop" r="textAreaRight" b="textAreaBottom"/>
            <a:pathLst>
              <a:path w="21600" h="970523">
                <a:moveTo>
                  <a:pt x="3600" y="0"/>
                </a:moveTo>
                <a:arcTo wR="3600" hR="3600" stAng="16200000" swAng="-5400000"/>
                <a:lnTo>
                  <a:pt x="0" y="966923"/>
                </a:lnTo>
                <a:arcTo wR="3600" hR="3600" stAng="10800000" swAng="-5400000"/>
                <a:lnTo>
                  <a:pt x="18000" y="9705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10800000"/>
          </a:gra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3218"/>
            </a:avLst>
          </a:prstGeom>
          <a:gradFill rotWithShape="0">
            <a:gsLst>
              <a:gs pos="0">
                <a:srgbClr val="ddebcf">
                  <a:alpha val="40000"/>
                </a:srgbClr>
              </a:gs>
              <a:gs pos="100000">
                <a:srgbClr val="156b13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11430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28600"/>
            <a:ext cx="838080" cy="838080"/>
            <a:chOff x="228600" y="228600"/>
            <a:chExt cx="838080" cy="838080"/>
          </a:xfrm>
        </p:grpSpPr>
        <p:sp>
          <p:nvSpPr>
            <p:cNvPr id="51" name=""/>
            <p:cNvSpPr/>
            <p:nvPr/>
          </p:nvSpPr>
          <p:spPr>
            <a:xfrm rot="5400000">
              <a:off x="228600" y="22824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609480" y="2282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1904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2286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28600" y="5791320"/>
            <a:ext cx="838080" cy="838080"/>
            <a:chOff x="228600" y="5791320"/>
            <a:chExt cx="838080" cy="838080"/>
          </a:xfrm>
        </p:grpSpPr>
        <p:sp>
          <p:nvSpPr>
            <p:cNvPr id="56" name=""/>
            <p:cNvSpPr/>
            <p:nvPr/>
          </p:nvSpPr>
          <p:spPr>
            <a:xfrm>
              <a:off x="22860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904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77320" y="228600"/>
            <a:ext cx="838080" cy="838080"/>
            <a:chOff x="8077320" y="228600"/>
            <a:chExt cx="838080" cy="838080"/>
          </a:xfrm>
        </p:grpSpPr>
        <p:sp>
          <p:nvSpPr>
            <p:cNvPr id="61" name=""/>
            <p:cNvSpPr/>
            <p:nvPr/>
          </p:nvSpPr>
          <p:spPr>
            <a:xfrm rot="10800000">
              <a:off x="8077320" y="22860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8458200" y="60948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8267760" y="41904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8077320" y="2286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077320" y="5791320"/>
            <a:ext cx="838080" cy="838080"/>
            <a:chOff x="8077320" y="5791320"/>
            <a:chExt cx="838080" cy="838080"/>
          </a:xfrm>
        </p:grpSpPr>
        <p:sp>
          <p:nvSpPr>
            <p:cNvPr id="66" name=""/>
            <p:cNvSpPr/>
            <p:nvPr/>
          </p:nvSpPr>
          <p:spPr>
            <a:xfrm rot="16200000">
              <a:off x="8077320" y="5791320"/>
              <a:ext cx="838080" cy="838080"/>
            </a:xfrm>
            <a:prstGeom prst="rect">
              <a:avLst/>
            </a:pr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8077320" y="617220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8267760" y="598176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8458200" y="5791320"/>
              <a:ext cx="457200" cy="457200"/>
            </a:xfrm>
            <a:prstGeom prst="plus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143000"/>
            <a:ext cx="15238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13712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8000"/>
                </a:solidFill>
                <a:latin typeface="Arial"/>
              </a:rPr>
              <a:t>Финансовый менеджмент: </a:t>
            </a:r>
            <a:br>
              <a:rPr sz="4200"/>
            </a:br>
            <a:r>
              <a:rPr b="1" i="1" lang="ru-RU" sz="2600" spc="-1" strike="noStrike">
                <a:solidFill>
                  <a:srgbClr val="008000"/>
                </a:solidFill>
                <a:latin typeface="Arial"/>
              </a:rPr>
              <a:t>Управление облигационным займом</a:t>
            </a:r>
            <a:endParaRPr b="1" i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0720" y="396252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эффициент конверс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.В, Ковалев, «Введение в финансовый менеджмент», стр.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564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1181160" y="278136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ЭФ|40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ндратенко К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-914400" y="3124440"/>
            <a:ext cx="4114800" cy="761760"/>
          </a:xfrm>
          <a:prstGeom prst="triangle">
            <a:avLst>
              <a:gd name="adj" fmla="val 52343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ционерное общество выпустило в 1998 году 8% конвертируемые облигации номиналом 500 руб. со сроком погашения в 2008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я с 2001 года облигация может обмениваться на 4 обыкновенные акции номиналом 100 руб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коэффициент конверсии и приемлемый уровень для обм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нвертируемая облиг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вертируемые облигации дают своим владельцам право обменять их на обыкновенные акции того же эмитента на условиях конверсионной привиле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эффициент конверсии определяется как разность на которую номинал облигации превышает обменный номинал 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эффициент конверс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0" y="2001960"/>
          <a:ext cx="42670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001960"/>
                    <a:ext cx="42670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 КК составил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мен облигации на акции становиться выгодным, если рыночная цена акции превысит 125 рублей (500/4). Также необходимо рассматривать прогнозируемую величину дивидендов по акц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вертируемые облигации имеют повышенную привлекательность по сравнению с обыкновенными для инвестора: в случае значительного роста котировок инвестор получает преимущ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защиты своих интересов эмитент может использовать специальные оговорки в условиях эмиссии о возможности досрочного погашения облигаций по желанию эмит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6-10-26T22:01:2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