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8000"/>
                </a:solidFill>
                <a:latin typeface="Arial"/>
              </a:rPr>
              <a:t>Финансовый менеджмент: </a:t>
            </a:r>
            <a:br>
              <a:rPr sz="4200"/>
            </a:b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Управление привлечением банковского кредита</a:t>
            </a:r>
            <a:endParaRPr b="1" i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Регулярный проц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.В, Ковалев, «Введение в финансовый менеджмент», стр. 65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приятие получило кредит от банка в размере 100 000 руб. под 16% год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это годовой кредит, данная ставка отражает стоимость этого источника. Если же ссуда краткосрочная – нужно пользоваться не номинальной, а эффективной став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читать эффективную ставку, если ссуда взята на 3 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считать эффективную ставку, если ссуда взята на 3 месяца и предусматривается удержание банком начисленных процентов в момент выдачи сс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405080"/>
          <a:ext cx="807732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05080"/>
                    <a:ext cx="80773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28600" y="2971800"/>
            <a:ext cx="8763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ая ст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инальная ст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внутригодовых начисл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ходя из предположения о непрерывности деятельности компании – по истечении квартала снова возникает необходимость в пролонгировании кредита, в этом случае начинает срабатывать схема сложных проц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емщик получает от банка 84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*(1-16%) = 84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имость этого источни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ссуда взята на 3 месяца, и имеется необходимость пролонгирования – необходимо рассчитать эффективную став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715000" y="1905120"/>
          <a:ext cx="289548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905120"/>
                    <a:ext cx="289548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52280" y="4648320"/>
          <a:ext cx="876312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648320"/>
                    <a:ext cx="87631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12-21T05:37:56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