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596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840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596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840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352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596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840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3352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596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840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352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143640" y="-6858360"/>
            <a:ext cx="18287280" cy="13715640"/>
            <a:chOff x="-9143640" y="-6858360"/>
            <a:chExt cx="18287280" cy="13715640"/>
          </a:xfrm>
        </p:grpSpPr>
        <p:sp>
          <p:nvSpPr>
            <p:cNvPr id="1" name=""/>
            <p:cNvSpPr/>
            <p:nvPr/>
          </p:nvSpPr>
          <p:spPr>
            <a:xfrm flipV="1">
              <a:off x="-9143280" y="-6858720"/>
              <a:ext cx="18287280" cy="137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>
              <a:off x="360" y="-720"/>
              <a:ext cx="9143280" cy="685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>
              <a:off x="4572360" y="3352320"/>
              <a:ext cx="4571280" cy="350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6858360" y="5028480"/>
              <a:ext cx="22852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8077320" y="5942880"/>
              <a:ext cx="106632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>
              <a:off x="8534520" y="6400080"/>
              <a:ext cx="609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152280" y="0"/>
            <a:ext cx="8839440" cy="6858000"/>
          </a:xfrm>
          <a:prstGeom prst="rect">
            <a:avLst/>
          </a:prstGeom>
          <a:gradFill rotWithShape="0">
            <a:gsLst>
              <a:gs pos="0">
                <a:srgbClr val="156b13">
                  <a:alpha val="0"/>
                </a:srgbClr>
              </a:gs>
              <a:gs pos="50000">
                <a:srgbClr val="ddebcf"/>
              </a:gs>
              <a:gs pos="100000">
                <a:srgbClr val="156b1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152280" cy="68580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6858000"/>
              <a:gd name="textAreaBottom" fmla="*/ 6850800 h 6858000"/>
            </a:gdLst>
            <a:ahLst/>
            <a:rect l="textAreaLeft" t="textAreaTop" r="textAreaRight" b="textAreaBottom"/>
            <a:pathLst>
              <a:path w="21600" h="970523">
                <a:moveTo>
                  <a:pt x="3600" y="0"/>
                </a:moveTo>
                <a:arcTo wR="3600" hR="3600" stAng="16200000" swAng="-5400000"/>
                <a:lnTo>
                  <a:pt x="0" y="966923"/>
                </a:lnTo>
                <a:arcTo wR="3600" hR="3600" stAng="10800000" swAng="-5400000"/>
                <a:lnTo>
                  <a:pt x="18000" y="970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50000">
                <a:srgbClr val="156b13"/>
              </a:gs>
              <a:gs pos="100000">
                <a:srgbClr val="ddebcf"/>
              </a:gs>
            </a:gsLst>
            <a:lin ang="10800000"/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991720" y="0"/>
            <a:ext cx="152280" cy="68580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6858000"/>
              <a:gd name="textAreaBottom" fmla="*/ 6850800 h 6858000"/>
            </a:gdLst>
            <a:ahLst/>
            <a:rect l="textAreaLeft" t="textAreaTop" r="textAreaRight" b="textAreaBottom"/>
            <a:pathLst>
              <a:path w="21600" h="970523">
                <a:moveTo>
                  <a:pt x="3600" y="0"/>
                </a:moveTo>
                <a:arcTo wR="3600" hR="3600" stAng="16200000" swAng="-5400000"/>
                <a:lnTo>
                  <a:pt x="0" y="966923"/>
                </a:lnTo>
                <a:arcTo wR="3600" hR="3600" stAng="10800000" swAng="-5400000"/>
                <a:lnTo>
                  <a:pt x="18000" y="970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50000">
                <a:srgbClr val="156b13"/>
              </a:gs>
              <a:gs pos="100000">
                <a:srgbClr val="ddebcf"/>
              </a:gs>
            </a:gsLst>
            <a:lin ang="10800000"/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3218"/>
            </a:avLst>
          </a:prstGeom>
          <a:gradFill rotWithShape="0">
            <a:gsLst>
              <a:gs pos="0">
                <a:srgbClr val="ddebcf">
                  <a:alpha val="40000"/>
                </a:srgbClr>
              </a:gs>
              <a:gs pos="100000">
                <a:srgbClr val="156b13"/>
              </a:gs>
            </a:gsLst>
            <a:lin ang="5400000"/>
          </a:gra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440" y="114300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28600" y="228600"/>
            <a:ext cx="838080" cy="838080"/>
            <a:chOff x="228600" y="228600"/>
            <a:chExt cx="838080" cy="838080"/>
          </a:xfrm>
        </p:grpSpPr>
        <p:sp>
          <p:nvSpPr>
            <p:cNvPr id="51" name=""/>
            <p:cNvSpPr/>
            <p:nvPr/>
          </p:nvSpPr>
          <p:spPr>
            <a:xfrm rot="5400000">
              <a:off x="228600" y="22824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5400000">
              <a:off x="609480" y="22824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5400000">
              <a:off x="419040" y="41904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228600" y="60948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" y="5791320"/>
            <a:ext cx="838080" cy="838080"/>
            <a:chOff x="228600" y="5791320"/>
            <a:chExt cx="838080" cy="838080"/>
          </a:xfrm>
        </p:grpSpPr>
        <p:sp>
          <p:nvSpPr>
            <p:cNvPr id="56" name=""/>
            <p:cNvSpPr/>
            <p:nvPr/>
          </p:nvSpPr>
          <p:spPr>
            <a:xfrm>
              <a:off x="228600" y="579132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8600" y="579132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9040" y="598176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9480" y="617220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077320" y="228600"/>
            <a:ext cx="838080" cy="838080"/>
            <a:chOff x="8077320" y="228600"/>
            <a:chExt cx="838080" cy="838080"/>
          </a:xfrm>
        </p:grpSpPr>
        <p:sp>
          <p:nvSpPr>
            <p:cNvPr id="61" name=""/>
            <p:cNvSpPr/>
            <p:nvPr/>
          </p:nvSpPr>
          <p:spPr>
            <a:xfrm rot="10800000">
              <a:off x="8077320" y="22860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0800000">
              <a:off x="8458200" y="60948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0800000">
              <a:off x="8267760" y="41904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0800000">
              <a:off x="8077320" y="22860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8077320" y="5791320"/>
            <a:ext cx="838080" cy="838080"/>
            <a:chOff x="8077320" y="5791320"/>
            <a:chExt cx="838080" cy="838080"/>
          </a:xfrm>
        </p:grpSpPr>
        <p:sp>
          <p:nvSpPr>
            <p:cNvPr id="66" name=""/>
            <p:cNvSpPr/>
            <p:nvPr/>
          </p:nvSpPr>
          <p:spPr>
            <a:xfrm rot="16200000">
              <a:off x="8077320" y="579132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6200000">
              <a:off x="8077320" y="617220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6200000">
              <a:off x="8267760" y="598176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8458200" y="579132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04920" y="1143000"/>
            <a:ext cx="15238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440" y="1371240"/>
            <a:ext cx="7010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8000"/>
                </a:solidFill>
                <a:latin typeface="Arial"/>
              </a:rPr>
              <a:t>Финансовый менеджмент: </a:t>
            </a:r>
            <a:br>
              <a:rPr sz="4200"/>
            </a:br>
            <a:r>
              <a:rPr b="1" i="1" lang="ru-RU" sz="2600" spc="-1" strike="noStrike">
                <a:solidFill>
                  <a:srgbClr val="008000"/>
                </a:solidFill>
                <a:latin typeface="Arial"/>
              </a:rPr>
              <a:t>Основы финансовой математики</a:t>
            </a:r>
            <a:endParaRPr b="1" i="1" lang="en-US" sz="2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80720" y="396252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аращение: простая и сложная процентные став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.В.Ковалев «Введение в ФМ», стр.3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 rot="5400000">
            <a:off x="-1181160" y="2781360"/>
            <a:ext cx="449568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ЭФ|403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ндратенко К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-914400" y="3124440"/>
            <a:ext cx="4114800" cy="761760"/>
          </a:xfrm>
          <a:prstGeom prst="triangle">
            <a:avLst>
              <a:gd name="adj" fmla="val 52343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35360" y="6248520"/>
            <a:ext cx="53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ЭФ-403_Кондратенко_Тема0_В.В.Ковалев_3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нятие простого и сложного процен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хема простых процентов предполагает неизменность базы, с которой происходит начис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P*(1+n*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происходит капитализация процентов (база возрастает), то применяется схема сложных проце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P*(1+r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адача (стр. 34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читать наращенную сумму с исходной суммы в 1 000 рублей при размещении её в банке на условиях начисления простых и сложных процентов, ес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довая ставка 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иоды начисления: 90 дней, 180 дней, 1 год, 5, 10 лет (360 дней в год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Расчеты (простые проценты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33520" y="1143000"/>
          <a:ext cx="8305560" cy="5334120"/>
        </p:xfrm>
        <a:graphic>
          <a:graphicData uri="http://schemas.openxmlformats.org/drawingml/2006/table">
            <a:tbl>
              <a:tblPr/>
              <a:tblGrid>
                <a:gridCol w="2652480"/>
                <a:gridCol w="5653080"/>
              </a:tblGrid>
              <a:tr h="88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хема начисления/ ср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ые процен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8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дн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000*(1+0,2*0,25)=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0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8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дн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000*(1+0,2*0,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=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10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8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000*(1+0,2*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=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0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8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000*(1+0,2*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=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00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8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000*(1+0,2*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=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300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Расчеты (сложные проценты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3520" y="1143000"/>
          <a:ext cx="8229600" cy="5630760"/>
        </p:xfrm>
        <a:graphic>
          <a:graphicData uri="http://schemas.openxmlformats.org/drawingml/2006/table">
            <a:tbl>
              <a:tblPr/>
              <a:tblGrid>
                <a:gridCol w="2628720"/>
                <a:gridCol w="560088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хема начисления/ ср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жные процен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8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дн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000*(1+0,2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,2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6,6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8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дн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000*(1+0,2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5,4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8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000*(1+0,2)=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0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8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000*(1+0,2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8,3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8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000*(1+0,2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91,7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имеч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видно из расчетов, при сроке до года более выгодна схема простых проц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срок превышает один год, более выгодной является схема сложных проц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1066680"/>
            <a:ext cx="426744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952880" y="144756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441972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15328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952880" y="2361960"/>
            <a:ext cx="228600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048120" y="303840"/>
            <a:ext cx="380952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553080" y="2666520"/>
            <a:ext cx="0" cy="17528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0" y="1371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15200" y="2209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4952880"/>
            <a:ext cx="3962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срок точно равен году – схемы равнознач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6-09-29T06:16:01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