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33520" y="3928680"/>
            <a:ext cx="822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50560" y="114264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33520" y="392868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50560" y="392868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5960" y="114264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98400" y="114264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533520" y="392868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5960" y="392868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98400" y="392868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53352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4015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50560" y="1142640"/>
            <a:ext cx="4015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533520" y="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50560" y="1142640"/>
            <a:ext cx="4015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33520" y="392868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53352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4015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50560" y="114264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750560" y="392868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50560" y="114264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33520" y="3928680"/>
            <a:ext cx="822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33520" y="3928680"/>
            <a:ext cx="822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50560" y="114264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33520" y="392868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750560" y="392868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315960" y="114264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98400" y="114264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533520" y="392868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315960" y="392868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98400" y="392868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4015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50560" y="1142640"/>
            <a:ext cx="4015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533520" y="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0560" y="1142640"/>
            <a:ext cx="4015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3520" y="392868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4015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50560" y="114264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50560" y="392868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0560" y="114264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3928680"/>
            <a:ext cx="822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9143640" y="-6858360"/>
            <a:ext cx="18287280" cy="13715640"/>
            <a:chOff x="-9143640" y="-6858360"/>
            <a:chExt cx="18287280" cy="13715640"/>
          </a:xfrm>
        </p:grpSpPr>
        <p:sp>
          <p:nvSpPr>
            <p:cNvPr id="1" name=""/>
            <p:cNvSpPr/>
            <p:nvPr/>
          </p:nvSpPr>
          <p:spPr>
            <a:xfrm flipV="1">
              <a:off x="-9143280" y="-6858720"/>
              <a:ext cx="18287280" cy="13715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>
              <a:off x="360" y="-720"/>
              <a:ext cx="9143280" cy="6857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>
              <a:off x="4572360" y="3352320"/>
              <a:ext cx="4571280" cy="350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>
              <a:off x="6858360" y="5028480"/>
              <a:ext cx="2285280" cy="18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>
              <a:off x="8077320" y="5942880"/>
              <a:ext cx="1066320" cy="91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>
              <a:off x="8534520" y="6400080"/>
              <a:ext cx="6091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"/>
          <p:cNvSpPr/>
          <p:nvPr/>
        </p:nvSpPr>
        <p:spPr>
          <a:xfrm>
            <a:off x="152280" y="0"/>
            <a:ext cx="8839440" cy="6858000"/>
          </a:xfrm>
          <a:prstGeom prst="rect">
            <a:avLst/>
          </a:prstGeom>
          <a:gradFill rotWithShape="0">
            <a:gsLst>
              <a:gs pos="0">
                <a:srgbClr val="156b13">
                  <a:alpha val="0"/>
                </a:srgbClr>
              </a:gs>
              <a:gs pos="50000">
                <a:srgbClr val="ddebcf"/>
              </a:gs>
              <a:gs pos="100000">
                <a:srgbClr val="156b13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53352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0"/>
            <a:ext cx="152280" cy="6858000"/>
          </a:xfrm>
          <a:custGeom>
            <a:avLst/>
            <a:gdLst>
              <a:gd name="textAreaLeft" fmla="*/ 7200 w 152280"/>
              <a:gd name="textAreaRight" fmla="*/ 145080 w 152280"/>
              <a:gd name="textAreaTop" fmla="*/ 7200 h 6858000"/>
              <a:gd name="textAreaBottom" fmla="*/ 6850800 h 6858000"/>
            </a:gdLst>
            <a:ahLst/>
            <a:rect l="textAreaLeft" t="textAreaTop" r="textAreaRight" b="textAreaBottom"/>
            <a:pathLst>
              <a:path w="21600" h="970523">
                <a:moveTo>
                  <a:pt x="3600" y="0"/>
                </a:moveTo>
                <a:arcTo wR="3600" hR="3600" stAng="16200000" swAng="-5400000"/>
                <a:lnTo>
                  <a:pt x="0" y="966923"/>
                </a:lnTo>
                <a:arcTo wR="3600" hR="3600" stAng="10800000" swAng="-5400000"/>
                <a:lnTo>
                  <a:pt x="18000" y="97052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ddebcf"/>
              </a:gs>
              <a:gs pos="50000">
                <a:srgbClr val="156b13"/>
              </a:gs>
              <a:gs pos="100000">
                <a:srgbClr val="ddebcf"/>
              </a:gs>
            </a:gsLst>
            <a:lin ang="10800000"/>
          </a:gra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8991720" y="0"/>
            <a:ext cx="152280" cy="6858000"/>
          </a:xfrm>
          <a:custGeom>
            <a:avLst/>
            <a:gdLst>
              <a:gd name="textAreaLeft" fmla="*/ 7200 w 152280"/>
              <a:gd name="textAreaRight" fmla="*/ 145080 w 152280"/>
              <a:gd name="textAreaTop" fmla="*/ 7200 h 6858000"/>
              <a:gd name="textAreaBottom" fmla="*/ 6850800 h 6858000"/>
            </a:gdLst>
            <a:ahLst/>
            <a:rect l="textAreaLeft" t="textAreaTop" r="textAreaRight" b="textAreaBottom"/>
            <a:pathLst>
              <a:path w="21600" h="970523">
                <a:moveTo>
                  <a:pt x="3600" y="0"/>
                </a:moveTo>
                <a:arcTo wR="3600" hR="3600" stAng="16200000" swAng="-5400000"/>
                <a:lnTo>
                  <a:pt x="0" y="966923"/>
                </a:lnTo>
                <a:arcTo wR="3600" hR="3600" stAng="10800000" swAng="-5400000"/>
                <a:lnTo>
                  <a:pt x="18000" y="97052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ddebcf"/>
              </a:gs>
              <a:gs pos="50000">
                <a:srgbClr val="156b13"/>
              </a:gs>
              <a:gs pos="100000">
                <a:srgbClr val="ddebcf"/>
              </a:gs>
            </a:gsLst>
            <a:lin ang="10800000"/>
          </a:gra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3218"/>
            </a:avLst>
          </a:prstGeom>
          <a:gradFill rotWithShape="0">
            <a:gsLst>
              <a:gs pos="0">
                <a:srgbClr val="ddebcf">
                  <a:alpha val="40000"/>
                </a:srgbClr>
              </a:gs>
              <a:gs pos="100000">
                <a:srgbClr val="156b13"/>
              </a:gs>
            </a:gsLst>
            <a:lin ang="5400000"/>
          </a:gra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828440" y="1143000"/>
            <a:ext cx="70866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228600" y="228600"/>
            <a:ext cx="838080" cy="838080"/>
            <a:chOff x="228600" y="228600"/>
            <a:chExt cx="838080" cy="838080"/>
          </a:xfrm>
        </p:grpSpPr>
        <p:sp>
          <p:nvSpPr>
            <p:cNvPr id="51" name=""/>
            <p:cNvSpPr/>
            <p:nvPr/>
          </p:nvSpPr>
          <p:spPr>
            <a:xfrm rot="5400000">
              <a:off x="228600" y="228240"/>
              <a:ext cx="838080" cy="838080"/>
            </a:xfrm>
            <a:prstGeom prst="rect">
              <a:avLst/>
            </a:prstGeom>
            <a:gradFill rotWithShape="0">
              <a:gsLst>
                <a:gs pos="0">
                  <a:srgbClr val="fefefe">
                    <a:alpha val="0"/>
                  </a:srgbClr>
                </a:gs>
                <a:gs pos="100000">
                  <a:srgbClr val="008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rot="5400000">
              <a:off x="609480" y="228240"/>
              <a:ext cx="457200" cy="457200"/>
            </a:xfrm>
            <a:prstGeom prst="plus">
              <a:avLst>
                <a:gd name="adj" fmla="val 25000"/>
              </a:avLst>
            </a:prstGeom>
            <a:solidFill>
              <a:srgbClr val="339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rot="5400000">
              <a:off x="419040" y="419040"/>
              <a:ext cx="457200" cy="457200"/>
            </a:xfrm>
            <a:prstGeom prst="plus">
              <a:avLst>
                <a:gd name="adj" fmla="val 25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228600" y="609480"/>
              <a:ext cx="457200" cy="457200"/>
            </a:xfrm>
            <a:prstGeom prst="plus">
              <a:avLst>
                <a:gd name="adj" fmla="val 25000"/>
              </a:avLst>
            </a:prstGeom>
            <a:solidFill>
              <a:srgbClr val="339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228600" y="5791320"/>
            <a:ext cx="838080" cy="838080"/>
            <a:chOff x="228600" y="5791320"/>
            <a:chExt cx="838080" cy="838080"/>
          </a:xfrm>
        </p:grpSpPr>
        <p:sp>
          <p:nvSpPr>
            <p:cNvPr id="56" name=""/>
            <p:cNvSpPr/>
            <p:nvPr/>
          </p:nvSpPr>
          <p:spPr>
            <a:xfrm>
              <a:off x="228600" y="5791320"/>
              <a:ext cx="838080" cy="838080"/>
            </a:xfrm>
            <a:prstGeom prst="rect">
              <a:avLst/>
            </a:prstGeom>
            <a:gradFill rotWithShape="0">
              <a:gsLst>
                <a:gs pos="0">
                  <a:srgbClr val="fefefe">
                    <a:alpha val="0"/>
                  </a:srgbClr>
                </a:gs>
                <a:gs pos="100000">
                  <a:srgbClr val="008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28600" y="5791320"/>
              <a:ext cx="457200" cy="457200"/>
            </a:xfrm>
            <a:prstGeom prst="plus">
              <a:avLst>
                <a:gd name="adj" fmla="val 25000"/>
              </a:avLst>
            </a:prstGeom>
            <a:solidFill>
              <a:srgbClr val="339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19040" y="5981760"/>
              <a:ext cx="457200" cy="457200"/>
            </a:xfrm>
            <a:prstGeom prst="plus">
              <a:avLst>
                <a:gd name="adj" fmla="val 25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09480" y="6172200"/>
              <a:ext cx="457200" cy="457200"/>
            </a:xfrm>
            <a:prstGeom prst="plus">
              <a:avLst>
                <a:gd name="adj" fmla="val 25000"/>
              </a:avLst>
            </a:prstGeom>
            <a:solidFill>
              <a:srgbClr val="339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077320" y="228600"/>
            <a:ext cx="838080" cy="838080"/>
            <a:chOff x="8077320" y="228600"/>
            <a:chExt cx="838080" cy="838080"/>
          </a:xfrm>
        </p:grpSpPr>
        <p:sp>
          <p:nvSpPr>
            <p:cNvPr id="61" name=""/>
            <p:cNvSpPr/>
            <p:nvPr/>
          </p:nvSpPr>
          <p:spPr>
            <a:xfrm rot="10800000">
              <a:off x="8077320" y="228600"/>
              <a:ext cx="838080" cy="838080"/>
            </a:xfrm>
            <a:prstGeom prst="rect">
              <a:avLst/>
            </a:prstGeom>
            <a:gradFill rotWithShape="0">
              <a:gsLst>
                <a:gs pos="0">
                  <a:srgbClr val="fefefe">
                    <a:alpha val="0"/>
                  </a:srgbClr>
                </a:gs>
                <a:gs pos="100000">
                  <a:srgbClr val="008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0800000">
              <a:off x="8458200" y="609480"/>
              <a:ext cx="457200" cy="457200"/>
            </a:xfrm>
            <a:prstGeom prst="plus">
              <a:avLst>
                <a:gd name="adj" fmla="val 25000"/>
              </a:avLst>
            </a:prstGeom>
            <a:solidFill>
              <a:srgbClr val="339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rot="10800000">
              <a:off x="8267760" y="419040"/>
              <a:ext cx="457200" cy="457200"/>
            </a:xfrm>
            <a:prstGeom prst="plus">
              <a:avLst>
                <a:gd name="adj" fmla="val 25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rot="10800000">
              <a:off x="8077320" y="228600"/>
              <a:ext cx="457200" cy="457200"/>
            </a:xfrm>
            <a:prstGeom prst="plus">
              <a:avLst>
                <a:gd name="adj" fmla="val 25000"/>
              </a:avLst>
            </a:prstGeom>
            <a:solidFill>
              <a:srgbClr val="339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8077320" y="5791320"/>
            <a:ext cx="838080" cy="838080"/>
            <a:chOff x="8077320" y="5791320"/>
            <a:chExt cx="838080" cy="838080"/>
          </a:xfrm>
        </p:grpSpPr>
        <p:sp>
          <p:nvSpPr>
            <p:cNvPr id="66" name=""/>
            <p:cNvSpPr/>
            <p:nvPr/>
          </p:nvSpPr>
          <p:spPr>
            <a:xfrm rot="16200000">
              <a:off x="8077320" y="5791320"/>
              <a:ext cx="838080" cy="838080"/>
            </a:xfrm>
            <a:prstGeom prst="rect">
              <a:avLst/>
            </a:prstGeom>
            <a:gradFill rotWithShape="0">
              <a:gsLst>
                <a:gs pos="0">
                  <a:srgbClr val="fefefe">
                    <a:alpha val="0"/>
                  </a:srgbClr>
                </a:gs>
                <a:gs pos="100000">
                  <a:srgbClr val="008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 rot="16200000">
              <a:off x="8077320" y="6172200"/>
              <a:ext cx="457200" cy="457200"/>
            </a:xfrm>
            <a:prstGeom prst="plus">
              <a:avLst>
                <a:gd name="adj" fmla="val 25000"/>
              </a:avLst>
            </a:prstGeom>
            <a:solidFill>
              <a:srgbClr val="339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rot="16200000">
              <a:off x="8267760" y="5981760"/>
              <a:ext cx="457200" cy="457200"/>
            </a:xfrm>
            <a:prstGeom prst="plus">
              <a:avLst>
                <a:gd name="adj" fmla="val 25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8458200" y="5791320"/>
              <a:ext cx="457200" cy="457200"/>
            </a:xfrm>
            <a:prstGeom prst="plus">
              <a:avLst>
                <a:gd name="adj" fmla="val 25000"/>
              </a:avLst>
            </a:prstGeom>
            <a:solidFill>
              <a:srgbClr val="339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304920" y="1143000"/>
            <a:ext cx="1523880" cy="464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828440" y="1371240"/>
            <a:ext cx="70102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008000"/>
                </a:solidFill>
                <a:latin typeface="Arial"/>
              </a:rPr>
              <a:t>Финансовый менеджмент: </a:t>
            </a:r>
            <a:br>
              <a:rPr sz="4200"/>
            </a:br>
            <a:r>
              <a:rPr b="1" i="1" lang="ru-RU" sz="2600" spc="-1" strike="noStrike">
                <a:solidFill>
                  <a:srgbClr val="008000"/>
                </a:solidFill>
                <a:latin typeface="Arial"/>
              </a:rPr>
              <a:t>Управление капиталом</a:t>
            </a:r>
            <a:endParaRPr b="1" i="1" lang="en-US" sz="2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980720" y="3962520"/>
            <a:ext cx="67820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Средневзвешенная стоимость капитала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В.В.Ковалев «Введение в ФМ», стр.61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 rot="5400000">
            <a:off x="-1181160" y="2781360"/>
            <a:ext cx="4495680" cy="13716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ДЭФ|403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ондратенко КИ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-914400" y="3124440"/>
            <a:ext cx="4114800" cy="761760"/>
          </a:xfrm>
          <a:prstGeom prst="triangle">
            <a:avLst>
              <a:gd name="adj" fmla="val 52343"/>
            </a:avLst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AC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CC (Weighted Average Cost of Capital)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казатель, характеризующий относительный уровень расходов на поддержание оптимальной структуры капитала, авансированного в деятельность компа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ражает сложившийся на предприятии  минимум возврата на вложенный капитал, его рентабельность и рассчитывается по формуле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990720" y="3657600"/>
          <a:ext cx="7315200" cy="296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657600"/>
                    <a:ext cx="7315200" cy="296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Пример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считать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CC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если налог на прибыль компании = 32%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533520" y="2133720"/>
          <a:ext cx="8229600" cy="4306680"/>
        </p:xfrm>
        <a:graphic>
          <a:graphicData uri="http://schemas.openxmlformats.org/drawingml/2006/table">
            <a:tbl>
              <a:tblPr/>
              <a:tblGrid>
                <a:gridCol w="2819160"/>
                <a:gridCol w="1690920"/>
                <a:gridCol w="1197000"/>
                <a:gridCol w="2522520"/>
              </a:tblGrid>
              <a:tr h="1248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сточник средст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Балансовая оценка, тыс. руб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Доля (d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Выплачиваемые проценты или дивиденды (k),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Заемные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0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раткосрочны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6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5,2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8,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0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Долгосрочны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1,7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5,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9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быкновенные ак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7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1,1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6,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ривилегированные ак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8,8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2,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ераспределенная прибы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,9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5,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8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того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7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00,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19" name=""/>
          <p:cNvSpPr/>
          <p:nvPr/>
        </p:nvSpPr>
        <p:spPr>
          <a:xfrm>
            <a:off x="3505320" y="3962520"/>
            <a:ext cx="3352680" cy="1828800"/>
          </a:xfrm>
          <a:prstGeom prst="wedgeRoundRectCallout">
            <a:avLst>
              <a:gd name="adj1" fmla="val 58523"/>
              <a:gd name="adj2" fmla="val 54689"/>
              <a:gd name="adj3" fmla="val 16667"/>
            </a:avLst>
          </a:prstGeom>
          <a:solidFill>
            <a:srgbClr val="ff99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нное число означает ориентировочную оценку доходности новых обыкновенных акций в случае их эмисс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Реше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скольку краткосрочные пассивы не относятся к понятию «капитал», в условиях задачи общая величина капитала составляет 11 000 руб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228600" y="2438280"/>
          <a:ext cx="8610480" cy="4267080"/>
        </p:xfrm>
        <a:graphic>
          <a:graphicData uri="http://schemas.openxmlformats.org/drawingml/2006/table">
            <a:tbl>
              <a:tblPr/>
              <a:tblGrid>
                <a:gridCol w="3236760"/>
                <a:gridCol w="1944720"/>
                <a:gridCol w="1086120"/>
                <a:gridCol w="2342880"/>
              </a:tblGrid>
              <a:tr h="1580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сточник средст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Балансовая оценка, тыс. ру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Доля (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Выплачиваемые проценты или дивиденды (k),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9040"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Заемные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3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Долгосроч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8,1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5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3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быкновенные ак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7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63,6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6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3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ривилегированные ак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3,6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2,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3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ераспределенная прибы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,5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5,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3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того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1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00,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Реше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учебнике Ковалева подробно объясняется, почему при расчет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CC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обходимо использовать показатели, исчисленные на посленалоговой основе. Ключевое положение – гипотеза о том, что все количественные оценки должны рассматриваться с позиции владельцев компании (они принимают решения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таком случае необходимо скорректировать показатель процентов по долгосрочным средства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228600" y="5410080"/>
          <a:ext cx="8534520" cy="81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5410080"/>
                    <a:ext cx="8534520" cy="81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Отве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пользуя новую структуру исходных данных произведем расчет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C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533520" y="2895480"/>
          <a:ext cx="8153280" cy="212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895480"/>
                    <a:ext cx="8153280" cy="212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609480" y="2514600"/>
          <a:ext cx="8077320" cy="3929040"/>
        </p:xfrm>
        <a:graphic>
          <a:graphicData uri="http://schemas.openxmlformats.org/drawingml/2006/table">
            <a:tbl>
              <a:tblPr/>
              <a:tblGrid>
                <a:gridCol w="3035520"/>
                <a:gridCol w="1825560"/>
                <a:gridCol w="1019160"/>
                <a:gridCol w="2197080"/>
              </a:tblGrid>
              <a:tr h="916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сточник средст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Балансовая оценка, тыс. ру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Доля (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Выплачиваемые проценты или дивиденды (k),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Заемные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Долгосроч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8,1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5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быкновенные ак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7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63,6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6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ривилегированные ак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3,6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2,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ераспределенная прибы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,5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5,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того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1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00,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" dur="5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Вывод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40384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аким образом, уровень затрат для поддержания экономического потенциала организации при сложившейся структуре капитала, требованиях инвесторов и кредиторов, дивидендной политике составляет 13,56%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кономический смысл? Предприятие может принимать любые решения инвестиционного характера, уровень рентабельности которых не ниже текущего значения показателя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C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952880" y="1225440"/>
            <a:ext cx="4038840" cy="42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06-10-12T18:58:10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