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307C-7AB9-4B11-BA34-E1B76E80F6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в Российском праве и правовое регулирование. Параллели схожести и различия закона о гос. пошлине и новой главы второй части 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равнить и определить что нов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66048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760" y="91404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66048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760" y="366048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91680" y="91404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83360" y="91404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66048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91680" y="366048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83360" y="366048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91404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91404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66048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91404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366048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91404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66048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366048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91404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66048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366048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91404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91404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366048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366048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366048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91404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91404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66048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91404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760" y="366048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91404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66048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76320"/>
            <a:ext cx="8229600" cy="761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" cy="914400"/>
            <a:chOff x="0" y="0"/>
            <a:chExt cx="914400" cy="91440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914400" cy="914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" cy="914400"/>
            </a:xfrm>
            <a:prstGeom prst="donut">
              <a:avLst>
                <a:gd name="adj" fmla="val 7726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4120" y="38160"/>
              <a:ext cx="685800" cy="723600"/>
            </a:xfrm>
            <a:prstGeom prst="triangle">
              <a:avLst>
                <a:gd name="adj" fmla="val 50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8229600" y="0"/>
            <a:ext cx="914400" cy="914400"/>
            <a:chOff x="8229600" y="0"/>
            <a:chExt cx="914400" cy="914400"/>
          </a:xfrm>
        </p:grpSpPr>
        <p:sp>
          <p:nvSpPr>
            <p:cNvPr id="6" name=""/>
            <p:cNvSpPr/>
            <p:nvPr/>
          </p:nvSpPr>
          <p:spPr>
            <a:xfrm>
              <a:off x="8229600" y="0"/>
              <a:ext cx="914400" cy="914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29600" y="0"/>
              <a:ext cx="914400" cy="914400"/>
            </a:xfrm>
            <a:prstGeom prst="donut">
              <a:avLst>
                <a:gd name="adj" fmla="val 7726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43720" y="38160"/>
              <a:ext cx="685800" cy="723600"/>
            </a:xfrm>
            <a:prstGeom prst="triangle">
              <a:avLst>
                <a:gd name="adj" fmla="val 50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1337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Финансовое право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Государственная пошлин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_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06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229600" y="1066680"/>
            <a:ext cx="83808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тариальные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НК жестко определяются размеры государственной пошлины за совершение нотариальных дейст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232000"/>
          <a:ext cx="9144000" cy="4478400"/>
        </p:xfrm>
        <a:graphic>
          <a:graphicData uri="http://schemas.openxmlformats.org/drawingml/2006/table">
            <a:tbl>
              <a:tblPr/>
              <a:tblGrid>
                <a:gridCol w="3962520"/>
                <a:gridCol w="1752480"/>
                <a:gridCol w="3429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З N 2005-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К Р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удостоверение доверенностей на совершение сделок (сделки), требующих (требующей) нотариальной фор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удостоверение доверенностей на право пользования и (или) распоряжения автотранспортными средст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кратный размер МР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ям …  – 25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ьным – 4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тариальные действ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нотариальное удостоверение доверенности на совершение сделок, требующих нотариальной формы, предусмотрена пошлина в размере 200 р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нотариальное удостоверение всех договоров (кроме договоров об ипотеке) предмет которых подлежит оценке и если такие удостоверения являются обязательными по закону – 0,5% суммы договора, но не менее 300 руб. и не более 20 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72080" y="1047600"/>
            <a:ext cx="4448160" cy="2381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43200" y="2133720"/>
            <a:ext cx="6248520" cy="4724280"/>
          </a:xfrm>
          <a:prstGeom prst="wedgeEllipseCallout">
            <a:avLst>
              <a:gd name="adj1" fmla="val -71365"/>
              <a:gd name="adj2" fmla="val 33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старому закону на нотариальное удостоверение договоров, предметом которых являлось отчуждение недвижимого имущества, или договоров дарения ТС, госпошлина составляла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изким родственникам – 0,5% суммы, не менее 50% М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чим лицам 1,5% суммы, не менее 1 М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чие договоры 1,5% суммы, не менее 50% М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шлины: органы ЗАГ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1066680"/>
          <a:ext cx="9144000" cy="5897520"/>
        </p:xfrm>
        <a:graphic>
          <a:graphicData uri="http://schemas.openxmlformats.org/drawingml/2006/table">
            <a:tbl>
              <a:tblPr/>
              <a:tblGrid>
                <a:gridCol w="4191120"/>
                <a:gridCol w="1523880"/>
                <a:gridCol w="3429000"/>
              </a:tblGrid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З N 2005-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К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осударственную регистрацию заключения брака, включая выдачу свидетель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Р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осударственную регистрацию расторжения брака, включая выдачу свидетельст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Р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рублей с каждого из супруг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расторжении брака в судебном поряд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РОТ с каждого из супру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рублей с каждого из супруг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расторжении брака по заявлению одного из супругов в случае, если другой супруг признан судом безвестно отсутствующим, недееспособным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МР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ьг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9140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усматриваются льготы в виде освобождения от уплаты пошлины для отдельных категорий физических лиц и организаций. Новые льготы в основном связаны с увеличением числа объектов взимания госпош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3714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676520" y="990720"/>
            <a:ext cx="1295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ьг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ьготы по уплате госпошлины установлены статья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3.35. Для отдельных категорий физических лиц и организа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3.36 При обращении в суды общей юрисдикции, а также к мировым судь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3.37 При обращении в арбитражные су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3.38 При обращении за совершением нотариальных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3.39 При государственной регистрации актов гражданского состо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ьг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К установлена льгота для истцов-пенсионеров по искам имущественного характера в судах общей юрисдикции (333.36 2.5). При этом они также как и инвалиды 1 и 2 групп, Ветераны ВОВ, ветераны боевых действий, не будут платить госпошлину в случае, если цена иска не превышает 1 000 000 ру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465120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ядок возврата (п1, ст. 333.40 Н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лаченная государственная пошлина подлежит возврату частично или полностью в случа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латы госпошлины в большем размер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а сумму перепла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вращения заявления, жалобы или иного обращения или отказа в их принятии судами либо отказа в совершении нотариальных действий уполномоченными на то органами и (или) должностными лицами. Если государственная пошлина не возвращена, е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умма засчитывается в счет уплаты государственной пошлины при повторном предъявлении и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если не истек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рехгодичный ср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 дня вынесения предыдущего решения и к повторному иску приложен первоначальный документ об уплате государственной пошл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рядок возв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кращения производства по делу или оставления заявления без рассмотрения судом общей юрисдикции или арбитражным суд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и заключении мирового соглашения до принятия решения арбитражным судом возврату истцу подлежи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процентов суммы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уплаченной им государственной пошл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(кроме случаев, когда  мировое соглашение заключено в процессе исполнения судебного акта арбитражного су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подлежит возврат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лаченная государственная пошлина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и добровольном удовлетворении ответчиком требований истц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обращения последнего в арбитражный суд и вынесения определения о принятии искового заявления к производству, а также при утверждении мирового соглашения судом общей юрисди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тк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лиц, уплативших государственную пошлину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т совершения юридически значимого действ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о обращения в уполномоченный орган (к должностному лицу), совершающий (совершающему) данное юридически значимое действ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тказа в выдаче паспорта гражданина Р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езда из РФ и въезда в РФ, удостоверяющего в случаях, предусмотренных законодательством, личность гражданина РФ за пределами территории РФ и на территории РФ, проездного документа беже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рядок возв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нкт 4.6 статьи 6 ФЗ «О госпошлине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лучае удовлетворения  исковых  требований  арбитражным  судом, если  ответчик освобожден от уплаты государственной пошлины  по искам о  взыскании налогов, сборов,  пошлин и других  обязательных  платежей в соответствующий бюджет  и возврате их из  соответствующего  бюджета, в случае,  когда  налоговые, финансовые, таможенные органы и органы по валютному  и экспортному контролю являются  стороной,  не  в  пользу  которой  состоялось  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образовался в пункт 5 статьи 333.4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врат уплаченной государственной пошлины в случаях, если решения судов приняты полностью или частично не в пользу государственных органов, органов местного самоуправления или должностных лиц, производится за счет средств бюджета, в который производилась уп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зврат пошл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1120" y="914400"/>
            <a:ext cx="4952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ышеупомянутом случае в соответствии с информационным письмом ВАС от 25.05.2005 №91 арбитражным судам необходимо указывать в судебном акте н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озврат истцам государственной пошлины в размере, пропорциональном размеру удовлетворенных исковых требова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в течение которого можно вернуть излишне уплаченную сумм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ен с одного года до 3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2895480" cy="2551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37512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ново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1 января 2005 года была введена новая глава 25.3 НК РФ «Государственная пошл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и признаны утратившими силу следующие зако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он РСФСР от 9 декабря 1991 г. N 2005-I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государственной пошл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он от 12 декабря 1991 года N 2023-I 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налоге на операции с ценными бумаг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он РФ от 2 апреля 1993 г. N 4737-I 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сборе за использование наименований "Россия", "Российская Федерация" и образованных на их основе слов и словосочета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 с изменениями и допол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целом глава 25.3 НК РФ детализирует понятие госпошлины. Основные отличия по сравнению с ФЗ «О госпошлине» можно свести к следующему спис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вки установлены жестко, а не привязаны к МРОТ (что связано с повышением устойчивости национальной валют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спошлина целиком зачисляется в федеральный бюджет (ранее целевой бюджет зависел от назначения пошлин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полнительные льг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грегация пошлин в отдельные группы (и в отдельные статьи), определение перечня прочих значимых 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нено определение плательщика пошл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бор, а не плат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им из явных плюсов новой главы является то, что нормы, касающиеся уплаты госпошлины, содержавшиеся ранее в разных документах теперь полностью представлены в главе 25.3 НК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800600" y="942840"/>
            <a:ext cx="36687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ново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 государственной пошлиной понимаетс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бо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а не платеж как раньше), взимаемый при обращении в государственные органы, органы местного самоуправления и (или) к уполномоченным должностным лиц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чень «прочих юридически значимых действий» определен. В Законе перечень носил открытый характер и мог пополняться как с изданием новых законов, так и подзаконных нормативных актов. Теперь этот перечен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ры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может быть изменен лишь с внесением в установленном порядке изменений в НК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РОССИЯ» и «РФ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спошлина уплачивается налогоплательщиками вместо ранее взимаемых лицензионных сборов и сборов за пользование наименований «Россия» и «Российская Федерация» а также налога на операции с ценными бумагами. Пошлины устанавливаются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ксированном разме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в то время как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нее они были привязаны к размеру МР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248520" y="2971800"/>
            <a:ext cx="2057400" cy="1676520"/>
            <a:chOff x="6248520" y="2971800"/>
            <a:chExt cx="2057400" cy="1676520"/>
          </a:xfrm>
        </p:grpSpPr>
        <p:sp>
          <p:nvSpPr>
            <p:cNvPr id="102" name=""/>
            <p:cNvSpPr/>
            <p:nvPr/>
          </p:nvSpPr>
          <p:spPr>
            <a:xfrm>
              <a:off x="6248520" y="4089600"/>
              <a:ext cx="2057400" cy="55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48520" y="3530520"/>
              <a:ext cx="2057400" cy="558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48520" y="2971800"/>
              <a:ext cx="205740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520" y="2971800"/>
              <a:ext cx="2057400" cy="1676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248520" y="1066680"/>
            <a:ext cx="2057400" cy="1676520"/>
            <a:chOff x="6248520" y="1066680"/>
            <a:chExt cx="2057400" cy="1676520"/>
          </a:xfrm>
        </p:grpSpPr>
        <p:sp>
          <p:nvSpPr>
            <p:cNvPr id="107" name=""/>
            <p:cNvSpPr/>
            <p:nvPr/>
          </p:nvSpPr>
          <p:spPr>
            <a:xfrm>
              <a:off x="6248520" y="2184480"/>
              <a:ext cx="2057400" cy="55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48520" y="1625400"/>
              <a:ext cx="2057400" cy="558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48520" y="1066680"/>
              <a:ext cx="205740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48520" y="1066680"/>
              <a:ext cx="2057400" cy="16765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48520" y="4876920"/>
            <a:ext cx="2057400" cy="1676160"/>
            <a:chOff x="6248520" y="4876920"/>
            <a:chExt cx="2057400" cy="1676160"/>
          </a:xfrm>
        </p:grpSpPr>
        <p:sp>
          <p:nvSpPr>
            <p:cNvPr id="112" name=""/>
            <p:cNvSpPr/>
            <p:nvPr/>
          </p:nvSpPr>
          <p:spPr>
            <a:xfrm>
              <a:off x="6248520" y="5994360"/>
              <a:ext cx="2057400" cy="558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5435640"/>
              <a:ext cx="2057400" cy="558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48520" y="4876920"/>
              <a:ext cx="205740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48520" y="4876920"/>
              <a:ext cx="2057400" cy="1676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сударственная пошл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сбор, взимаемый с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физическ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иц 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рганизац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 их обращении в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енные орга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органы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естного самоуправл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ные орга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(или) к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олжностным лиц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уполномоченным в соответствии с законодательными актами РФ, законодательными актами субъектов РФ и нормативными правовыми актами органов местного самоуправления, за совершение в отношении этих лиц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юридически значимых действ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за исключением действий, совершаемых консульскими учреждениями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логовый кодекс, вторая часть, глава 25.3, ст. 333.16-333.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тельщ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тельщиками государственной пошлины признаются организации и  физические лица в случае, если о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щаются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 совершением юридически значимых действ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редусмотренных настоящей глав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ыступают ответчик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удах общей юрисдикции, арбитражных судах или по делам, рассматриваемым мировыми судьями, и если при этом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решение суда принято не в их пользу и истец освобожден от уплаты государственной пошл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екты госпош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914400"/>
          <a:ext cx="9144000" cy="61167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К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ая пошлина взимается: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 исковых  и  иных  заявлений  и  жалоб, подаваемых в суды общей  юрисдикции,  арбитражные  суды   и  Конституционный  Суд   Российской  Федераци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овершение  нотариальных дейст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 государственную  регистрацию  актов  гражданского состоя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выдачу документов указанными судами, учреждениями и органам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рассмотрение  и выдачу  документов, связанных  с приобретением  гражданства  Российской   Федерации   или  выходом   из   гражданства  Российской  Федерации,  а  также  за  совершение  других   юридически значимых действий, определяемых настоящим Закон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ая пошлина взимается: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делам, рассматриваемым в судах общей  юрисдикции,  арбитражные  суды   и  Конституционный  Суд   Российской  Федерац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овершение нотариальных дейст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осударственную регистрацию актов гражданского состоя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овершение действий, связанных с приобретением гражданства РФ, выходом из гражданства, с въездом или с выездом из Р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осударственную регистрацию и за совершение прочих юридически значимых дейст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а государственную регистрацию выпуска ценных бумаг, СМИ, вывоза культурных ценностей, право использования слов «Россия», «РФ»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битражный с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рассмотрении дел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битражных суд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при подаче искового заявления имущественного характера, подлежащего оценке) предусматриваются пониженные размеры пошл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нты указаны от цены имущественного 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286000"/>
          <a:ext cx="9144000" cy="4317840"/>
        </p:xfrm>
        <a:graphic>
          <a:graphicData uri="http://schemas.openxmlformats.org/drawingml/2006/table">
            <a:tbl>
              <a:tblPr/>
              <a:tblGrid>
                <a:gridCol w="1981080"/>
                <a:gridCol w="2590920"/>
                <a:gridCol w="2286000"/>
                <a:gridCol w="2286000"/>
              </a:tblGrid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ла (Ф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ла (Н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 мл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, не менее 1 МР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5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000 руб. + 4% свыше 10 мл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– 100 мл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00 000 руб. + 3% свыше 50 мл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1 – 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 руб. + 3% свыше 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– 500 мл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00 000 руб. + 2% свыше 100 мл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001 – 5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00 руб. + 2% свыше 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млн. – 1 млр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600 000 руб. + 1% свыше 500 млн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001 – 1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00 руб. + 1% свыше 5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р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600 000 руб. + 0,5% свыше 1 млр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500 руб. + 0,5% свыше 1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битражный с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9140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даче заявления в арбитражный суд о признании нормативного акта недействующим с организации взимается 2000 руб.; для физических лиц – 100 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4267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7-02-07T23:22:5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