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Финансовое право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Принципы бюджетного устройств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нцип равенства бюджетных прав субъектов РФ, муниципальных образований (31.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й принцип был введен ФЗ от 20.08.2004 года №120-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начает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бюджетных полномоч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рганов государственной власти субъектов РФ и органов местного самоуправления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установление и исполнение расходных обязательст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формирование налоговых и неналоговых доход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юджетов субъектов РФ и местных бюджетов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объема, форм и порядка предоставления межбюджетных трансфер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соответствии с единым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нципами и требовани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установленными настоящим Кодек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говоры и соглашения межд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едеральны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рганами государственной власти и органами государственной вла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убъектов Р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рганами государственной власти и органа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естного самоуправ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не соответствующие настоящему Кодек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являются недействи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нцип полноты отражения доходов и расходов бюджетов, бюджетов государственных внебюджетных фондов (3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начает, что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се доходы и расходы бюдж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бюджетов государственных внебюджетных фондов и иные обязательные поступления, определенные налоговым и бюджетным законодательством РФ, законами о государственных внебюджетных фондах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длежат отражению в бюджет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бюджетах государственных внебюджетных фондов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 обязательном порядке и в полном объе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се государственные и муниципальные расходы подлежат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финансировани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а счет бюджетных средств, средств государственных внебюджетных фондов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ккумулирован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бюджетной системе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логовые кредиты, отсрочки и рассрочки по уплате налогов и иных обязательных платежей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лностью учитываются отдельно по доходам бюдж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бюджетов государственных внебюджетных фондов и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 расходам бюдж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бюджетов государственных внебюджетных фондов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а исключени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тсрочек и рассроч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уплате налогов и иных обязательных платежей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яемых в пределах текущего финансового г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нцип сбалансированности бюджета (3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23920" y="114264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начает, что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бъ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дусмотренных бюджетом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асход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олжен соответствов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уммарному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бъе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оход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юджета и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ступл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з источников финансирования его дефиц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составлении, утверждении и исполнении бюджета уполномоченные органы должны исходить из необходимости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инимизации размера дефиц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юдж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1142640"/>
            <a:ext cx="4038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нцип эффективности и экономности использования бюджетных средств (3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начает, что при составлении и исполнении бюджетов уполномоченные органы и получатели бюджетных средств должны исходить из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сти достижения заданных результатов с использованием наименьшего объема средст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остижения наилучшего результата с использованием определенного бюджетом объема средст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нцип общего (совокупного) покрытия расходов бюджетов (3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чает, что вс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асходы бюджета должны покрыва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бще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уммой доходов бюдж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уплений из источников финансирования его дефици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ходы бюджета и поступления из источников финансирования его дефицита не могут быть увязаны с определенными расходами бюджета, за исключением доходов целевых бюджетных фондов, средств целевых иностранных кредитов, а также в случае централизации средств из бюджетов других уровней бюджетной системы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нцип гласности (3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нцип гласности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язательное опублико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ткрытой печати утвержденных бюдж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отчетов об их исполнении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лноту представления информации о ходе исполнения бюдж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оступность иных свед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решению законодательных (представительных) органов государственной власти, органов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язательную открыт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общества и СМИ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оцедур рассмотрения и принятия реш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проектам бюджетов, в том числ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 вопросам, вызывающим разноглас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ибо внутри законодательного (представительного) органа государственной власти, либо между законодательным (представительным) и исполнительным органами государствен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екретные статьи могут утверждаться только в составе федерального бюдж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нцип достоверности бюджета (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чает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дежность показателей прогноза социально-экономического развития соответствующей территории и реалистичность расчета доходов и расходов бюдж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723920" y="1142640"/>
            <a:ext cx="4038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 адресности и целевого характера бюджетных средств (3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чает, ч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юджетные средства выделяются в распоряжение конкретных получателей бюджетных средств с обозначением направления их на финансирование конкретных цел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ые действия, приводящие к нарушению адресности предусмотренных бюджетом средств либо к направлению их на цели, не обозначенные в бюджете при выделении конкретных сумм средств, являю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ушен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юджетного законодательства РФ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юджетный кодекс РФ устанавливае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е принципы бюджетного законодательства РФ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рганизации и функционирования бюджетной системы РФ, правовое положение субъектов бюджетных правоотношений, определяет основы бюджетного процесса и межбюджетных отношений в РФ, основания и виды ответственности за нарушение бюджетного законодательства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 Гос.Думой РФ, 17.07.98; №145-Ф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ечень принцип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торой части бюджетного кодекса принципы бюджетного законодательства перечислены в следующем порядке (Глава 5, статья 28 – статья 38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юджетная система РФ основана на принцип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ства бюджетной системы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граничения доходов и расходов между уровнями бюджетной системы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оятельности бюдж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енства бюджетных прав субъектов РФ, муниципальных образов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ты отражения доходов и расходов бюджетов, бюджетов государственных внебюджетных фон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ечень принцип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алансированности бюдж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и и экономности использования бюджетных сред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го (совокупного) покрытия расходов бюдже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с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верности бюдж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ности и целевого характера бюджетны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нцип единства бюджетной системы РФ (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чает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единство бюджетного законодательства Р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инципов организации и функционир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юджетной системы Р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динство форм бюджетной документации и отчетности, бюджетной классификации бюджетной системы РФ, санкций за нарушение бюджетного законодательства РФ. Единый порядок установления и исполнения расходных обязательств, формирования доходов и осуществления расходов бюджетов бюджетной системы РФ, ведения бюджетного учета и отчетности бюджетов бюджетной системы РФ и бюджетных учре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нцип разграничения доходов и расходов между уровнями бюджетной системы РФ (3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значает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кр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соответствии с законодательством РФ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оходов и расходов за бюджетами бюджетной системы Р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полномочий органов государственной вла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органов местного самоуправления) п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формированию доход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становл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сполн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ходных обяза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1943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нцип самостоятельности бюджетов (3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 самостоятельности бюджетов озна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язан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рганов государственной власти и органов местного самоуправ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 обеспечивать сбалансированность соответствующих бюджет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эффективность использ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юджетны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язан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рганов государственной власти и органов местного самоуправ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а соответствующем уров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юджетной системы РФ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 осуществлять бюджетный проце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за исключением случаев, предусмотренных настоящим Кодекс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ава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рганов государственной власти и органов местного самоуправлени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устанавлив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соответствии с законодательством РФ о налогах и сборах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налоги и сб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длежащие зачислению в бюджеты соответствующего уров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юджетной системы РФ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рганов государственной власти и органов местного самоуправления в соответствии с настоящим Кодексом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 определять формы и направления расходования средств бюдж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за исключением расходов, финансовое обеспечение которых осуществляется за счет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убсидий и субвен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з бюджетов других уровн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допустим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установления расходных обязательст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одлежащих исполнению одновременно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а счет средств бюджетов двух и более уров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юджетной системы РФ, или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а счет средств консолидированных бюдж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или без определения бюджета, за счет средств которого должно осуществляться исполнение соответствующих расходных обязатель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допустимости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допустим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посредственного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исполнения расходных обязательст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рганов государственной власти и органов местного самоуправлени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а счет средств бюджетов других уров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допустим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ведения в действие в течение финансового года органами государственной власти и органами местного самоуправлени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й и изменений бюджетного законодатель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(или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аконодательства о налогах и сбор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иводящих к увеличению расходов и (или) снижению доходов бюджетов других уровней без внесения изменений в законы (решения) о соответствующих бюджетах, предусматривающих компенсацию увеличения расходов, снижения дох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допустим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изъят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течение финансового год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ополнительных доход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экономии по расходам бюдж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олученных в результате эффективного исполнения бюдж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7-01-25T00:30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