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CE43-5D98-4286-9B95-1775CE8F76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ое пра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: Обязательное государственное страхование за счет средств государствен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. 969 ГК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нализ законов об обязательном государственном страховании военнослужа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ые законодательные власти (о статусе депутатов, о милиции) - нормы об обязательном страх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то, кого, за чей счет - отличительные особенности от норм классического страх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9480" y="418716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18716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0280" y="418716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09480" y="418716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88960" y="418716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68800" y="418716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925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418716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0280" y="418716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418716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9480" y="418716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18716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0280" y="418716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09480" y="418716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88960" y="418716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968800" y="4187160"/>
            <a:ext cx="255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925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18716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0280" y="418716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418716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496360" y="3276720"/>
            <a:ext cx="647640" cy="3581280"/>
            <a:chOff x="8496360" y="3276720"/>
            <a:chExt cx="647640" cy="3581280"/>
          </a:xfrm>
        </p:grpSpPr>
        <p:sp>
          <p:nvSpPr>
            <p:cNvPr id="3" name=""/>
            <p:cNvSpPr/>
            <p:nvPr/>
          </p:nvSpPr>
          <p:spPr>
            <a:xfrm>
              <a:off x="8534520" y="3809880"/>
              <a:ext cx="609480" cy="609840"/>
            </a:xfrm>
            <a:prstGeom prst="ellipse">
              <a:avLst/>
            </a:prstGeom>
            <a:blipFill rotWithShape="0">
              <a:blip r:embed="rId2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4520" y="4419720"/>
              <a:ext cx="609480" cy="609480"/>
            </a:xfrm>
            <a:prstGeom prst="ellipse">
              <a:avLst/>
            </a:prstGeom>
            <a:blipFill rotWithShape="0">
              <a:blip r:embed="rId3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534520" y="5029200"/>
              <a:ext cx="609480" cy="609480"/>
            </a:xfrm>
            <a:prstGeom prst="ellipse">
              <a:avLst/>
            </a:prstGeom>
            <a:blipFill rotWithShape="0">
              <a:blip r:embed="rId4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34520" y="5638680"/>
              <a:ext cx="609480" cy="609840"/>
            </a:xfrm>
            <a:prstGeom prst="ellipse">
              <a:avLst/>
            </a:prstGeom>
            <a:blipFill rotWithShape="0">
              <a:blip r:embed="rId5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34520" y="6248520"/>
              <a:ext cx="609480" cy="609480"/>
            </a:xfrm>
            <a:prstGeom prst="ellipse">
              <a:avLst/>
            </a:prstGeom>
            <a:blipFill rotWithShape="0">
              <a:blip r:embed="rId6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96360" y="3276720"/>
              <a:ext cx="647640" cy="3581280"/>
            </a:xfrm>
            <a:prstGeom prst="can">
              <a:avLst>
                <a:gd name="adj" fmla="val 9675"/>
              </a:avLst>
            </a:prstGeom>
            <a:gradFill rotWithShape="0">
              <a:gsLst>
                <a:gs pos="0">
                  <a:srgbClr val="fff200">
                    <a:alpha val="50196"/>
                  </a:srgbClr>
                </a:gs>
                <a:gs pos="50000">
                  <a:srgbClr val="4d0808"/>
                </a:gs>
                <a:gs pos="100000">
                  <a:srgbClr val="fff200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0" y="3276720"/>
            <a:ext cx="647640" cy="3581280"/>
            <a:chOff x="0" y="3276720"/>
            <a:chExt cx="647640" cy="3581280"/>
          </a:xfrm>
        </p:grpSpPr>
        <p:grpSp>
          <p:nvGrpSpPr>
            <p:cNvPr id="10" name=""/>
            <p:cNvGrpSpPr/>
            <p:nvPr/>
          </p:nvGrpSpPr>
          <p:grpSpPr>
            <a:xfrm>
              <a:off x="0" y="3581280"/>
              <a:ext cx="609480" cy="3048120"/>
              <a:chOff x="0" y="3581280"/>
              <a:chExt cx="609480" cy="304812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3581280"/>
                <a:ext cx="609480" cy="609840"/>
              </a:xfrm>
              <a:prstGeom prst="ellipse">
                <a:avLst/>
              </a:prstGeom>
              <a:blipFill rotWithShape="0">
                <a:blip r:embed="rId7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191120"/>
                <a:ext cx="609480" cy="609480"/>
              </a:xfrm>
              <a:prstGeom prst="ellipse">
                <a:avLst/>
              </a:prstGeom>
              <a:blipFill rotWithShape="0">
                <a:blip r:embed="rId8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800600"/>
                <a:ext cx="609480" cy="609480"/>
              </a:xfrm>
              <a:prstGeom prst="ellipse">
                <a:avLst/>
              </a:prstGeom>
              <a:blipFill rotWithShape="0">
                <a:blip r:embed="rId9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609480" cy="609840"/>
              </a:xfrm>
              <a:prstGeom prst="ellipse">
                <a:avLst/>
              </a:prstGeom>
              <a:blipFill rotWithShape="0">
                <a:blip r:embed="rId10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6019920"/>
                <a:ext cx="609480" cy="609480"/>
              </a:xfrm>
              <a:prstGeom prst="ellipse">
                <a:avLst/>
              </a:prstGeom>
              <a:blipFill rotWithShape="0">
                <a:blip r:embed="rId11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3276720"/>
              <a:ext cx="647640" cy="3581280"/>
            </a:xfrm>
            <a:prstGeom prst="can">
              <a:avLst>
                <a:gd name="adj" fmla="val 9675"/>
              </a:avLst>
            </a:prstGeom>
            <a:gradFill rotWithShape="0">
              <a:gsLst>
                <a:gs pos="0">
                  <a:srgbClr val="fff200">
                    <a:alpha val="50196"/>
                  </a:srgbClr>
                </a:gs>
                <a:gs pos="50000">
                  <a:srgbClr val="4d0808"/>
                </a:gs>
                <a:gs pos="100000">
                  <a:srgbClr val="fff200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8496360" y="0"/>
            <a:ext cx="647640" cy="3581280"/>
            <a:chOff x="8496360" y="0"/>
            <a:chExt cx="647640" cy="3581280"/>
          </a:xfrm>
        </p:grpSpPr>
        <p:grpSp>
          <p:nvGrpSpPr>
            <p:cNvPr id="18" name=""/>
            <p:cNvGrpSpPr/>
            <p:nvPr/>
          </p:nvGrpSpPr>
          <p:grpSpPr>
            <a:xfrm>
              <a:off x="8534520" y="228600"/>
              <a:ext cx="609480" cy="3048120"/>
              <a:chOff x="8534520" y="228600"/>
              <a:chExt cx="609480" cy="3048120"/>
            </a:xfrm>
          </p:grpSpPr>
          <p:sp>
            <p:nvSpPr>
              <p:cNvPr id="19" name=""/>
              <p:cNvSpPr/>
              <p:nvPr/>
            </p:nvSpPr>
            <p:spPr>
              <a:xfrm>
                <a:off x="8534520" y="228600"/>
                <a:ext cx="609480" cy="609840"/>
              </a:xfrm>
              <a:prstGeom prst="ellipse">
                <a:avLst/>
              </a:prstGeom>
              <a:blipFill rotWithShape="0">
                <a:blip r:embed="rId12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534520" y="838440"/>
                <a:ext cx="609480" cy="609480"/>
              </a:xfrm>
              <a:prstGeom prst="ellipse">
                <a:avLst/>
              </a:prstGeom>
              <a:blipFill rotWithShape="0">
                <a:blip r:embed="rId13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34520" y="1447920"/>
                <a:ext cx="609480" cy="609480"/>
              </a:xfrm>
              <a:prstGeom prst="ellipse">
                <a:avLst/>
              </a:prstGeom>
              <a:blipFill rotWithShape="0">
                <a:blip r:embed="rId14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34520" y="2057400"/>
                <a:ext cx="609480" cy="609840"/>
              </a:xfrm>
              <a:prstGeom prst="ellipse">
                <a:avLst/>
              </a:prstGeom>
              <a:blipFill rotWithShape="0">
                <a:blip r:embed="rId15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534520" y="2667240"/>
                <a:ext cx="609480" cy="609480"/>
              </a:xfrm>
              <a:prstGeom prst="ellipse">
                <a:avLst/>
              </a:prstGeom>
              <a:blipFill rotWithShape="0">
                <a:blip r:embed="rId16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8496360" y="0"/>
              <a:ext cx="647640" cy="3581280"/>
            </a:xfrm>
            <a:prstGeom prst="can">
              <a:avLst>
                <a:gd name="adj" fmla="val 9675"/>
              </a:avLst>
            </a:prstGeom>
            <a:gradFill rotWithShape="0">
              <a:gsLst>
                <a:gs pos="0">
                  <a:srgbClr val="fff200">
                    <a:alpha val="50196"/>
                  </a:srgbClr>
                </a:gs>
                <a:gs pos="50000">
                  <a:srgbClr val="4d0808"/>
                </a:gs>
                <a:gs pos="100000">
                  <a:srgbClr val="fff200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"/>
          <p:cNvGrpSpPr/>
          <p:nvPr/>
        </p:nvGrpSpPr>
        <p:grpSpPr>
          <a:xfrm>
            <a:off x="0" y="0"/>
            <a:ext cx="647640" cy="3581280"/>
            <a:chOff x="0" y="0"/>
            <a:chExt cx="647640" cy="3581280"/>
          </a:xfrm>
        </p:grpSpPr>
        <p:grpSp>
          <p:nvGrpSpPr>
            <p:cNvPr id="26" name=""/>
            <p:cNvGrpSpPr/>
            <p:nvPr/>
          </p:nvGrpSpPr>
          <p:grpSpPr>
            <a:xfrm>
              <a:off x="0" y="380880"/>
              <a:ext cx="609480" cy="3048120"/>
              <a:chOff x="0" y="380880"/>
              <a:chExt cx="609480" cy="304812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380880"/>
                <a:ext cx="609480" cy="609840"/>
              </a:xfrm>
              <a:prstGeom prst="ellipse">
                <a:avLst/>
              </a:prstGeom>
              <a:blipFill rotWithShape="0">
                <a:blip r:embed="rId17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990720"/>
                <a:ext cx="609480" cy="609480"/>
              </a:xfrm>
              <a:prstGeom prst="ellipse">
                <a:avLst/>
              </a:prstGeom>
              <a:blipFill rotWithShape="0">
                <a:blip r:embed="rId18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1600200"/>
                <a:ext cx="609480" cy="609480"/>
              </a:xfrm>
              <a:prstGeom prst="ellipse">
                <a:avLst/>
              </a:prstGeom>
              <a:blipFill rotWithShape="0">
                <a:blip r:embed="rId19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2209680"/>
                <a:ext cx="609480" cy="609840"/>
              </a:xfrm>
              <a:prstGeom prst="ellipse">
                <a:avLst/>
              </a:prstGeom>
              <a:blipFill rotWithShape="0">
                <a:blip r:embed="rId20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2819520"/>
                <a:ext cx="609480" cy="609480"/>
              </a:xfrm>
              <a:prstGeom prst="ellipse">
                <a:avLst/>
              </a:prstGeom>
              <a:blipFill rotWithShape="0">
                <a:blip r:embed="rId21">
                  <a:alphaModFix amt="5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" name=""/>
            <p:cNvSpPr/>
            <p:nvPr/>
          </p:nvSpPr>
          <p:spPr>
            <a:xfrm>
              <a:off x="0" y="0"/>
              <a:ext cx="647640" cy="3581280"/>
            </a:xfrm>
            <a:prstGeom prst="can">
              <a:avLst>
                <a:gd name="adj" fmla="val 9675"/>
              </a:avLst>
            </a:prstGeom>
            <a:gradFill rotWithShape="0">
              <a:gsLst>
                <a:gs pos="0">
                  <a:srgbClr val="fff200">
                    <a:alpha val="50196"/>
                  </a:srgbClr>
                </a:gs>
                <a:gs pos="50000">
                  <a:srgbClr val="4d0808"/>
                </a:gs>
                <a:gs pos="100000">
                  <a:srgbClr val="fff200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28600"/>
            <a:ext cx="8229600" cy="2286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50000">
                <a:srgbClr val="4d0808"/>
              </a:gs>
              <a:gs pos="100000">
                <a:srgbClr val="fff200"/>
              </a:gs>
            </a:gsLst>
            <a:lin ang="8100000"/>
          </a:gradFill>
          <a:ln w="5724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6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57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772400" y="2057400"/>
            <a:ext cx="1371600" cy="65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2057400"/>
            <a:ext cx="1371600" cy="657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057400" y="2590920"/>
            <a:ext cx="4800600" cy="3593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Обязательное государственное страхование за счет средств государственного бюджета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студент группы ДЭФ-4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, 200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Страховщики (3)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аховщиками по ОГС могут быть страховые организации, имеющие разрешен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ценз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на осуществление обязательного государственного страхования и заключившие со страхователями договоры обязательного государственного страх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аховщики выбираются на конкурсной осн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162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Страхователи / Застрахованные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ахователя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 ОГС являютс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федеральные органы исполнительной вла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 которых законодательством РФ предусмотрены военная служба, служба, военные сб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страхова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 ОГС являются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оеннослужащ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иравненные к н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ОГС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Приравненные лица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удьи Конституционного 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т. 13 «О Конституционном Суде РФ», №1-ФКЗ от 21.07.199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удьи Военных суд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т. 36 «О Военных Судах РФ», №1-ФКЗ от 23.06.1999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удь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т. 20 «О статусе судей в РФ», №3132-1 от 26.06.199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ые инспектора по охране территорий государственных природных заповедников и национальных парк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т. 34 «Об особо охраняемых природных территориях»,№33-ФЗ от 14.03.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Члены Совета Федераций, Депутаты Государственной Ду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т. 2 ФЗ «О статусе члена СФ и Депутата ГД ФС РФ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Приравненные лица (2)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удебные пристав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ст. 20 «О судебных приставах», №118-ФЗ от 21.07.1997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чальствующий состав федеральной фельдъегерской свя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ст. 10.1 «О федеральной фельдъегерской связи», №67-ФЗ от 17.12.199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зидент РФ, прекративший исполнение своих полномоч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 ст. 2 «О гарантиях Президенту РФ, прекратившему исполнение своих полномочий и членам его семьи», №12-ФЗ от 12.02.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Выгодоприобритатели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страхованное лиц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учае гибели застрахованного лиц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пруг (супруга), состоящий в зарегистрированном браке с ни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ители (усыновители) застрахованного лиц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душка и бабушка застрахованного лица - при условии отсутствия у него родителей, если они воспитывали или содержали его не менее трех л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чим и мачеха застрахованного лица - при условии, если они воспитывали или содержали его не менее пяти л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и, не достигшие 18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и старше 18, если они стали инвалидами до достижения 18 лет, а также обучающиеся в образовательных учреждениях независимо от их организационно-правовых форм и форм собственности, до окончания обучения или до достижения ими 23 л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опечные застрахованного ли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Контроль страховщиков ОГС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цензия на осуществление ОГС выдаются страховым организациям федеральным органом по надзору за страховой деятельностью при условии их соответствия установленным действующим законодательством РФ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бованиям по защите государственной тай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деятельности по ОГС допускаются страховые орган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 которых сформирован без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участия иностранных инвести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ют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ий опыт работы в области личного страхования не менее 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ели финансовой надежности, установленные федеральным органом по надзору за страховой деятельностью, гарантирующие финансовую обеспеченность взятых на ответственность страховых обяз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ительный контроль за деятельностью страховщиков осущест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аблюдательными совет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комитетами), состоящими из полномочных представителей страхователей и страховщ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ГС: Страховые случаи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бель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застрахованного лица в период прохождения службы (+1 год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овление застрахованному лиц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валид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период прохождения службы (+1 год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ие застрахованным лицом в период прохождения службы тяжелого или легко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чь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ранения, травмы, контуз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рочное увольн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оеннослужащего признанного военно-врачебной комиссией ограниченно годным к военной службе или не годными к военной службе вследств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чь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ранения, травмы, контузии) 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боле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олученных в период прохождения военной сл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Размеры страховых сумм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яются исходя из окладов месячного денежного содержания военнослужащих и приравненных к ним в ОГС лиц, включающих в себ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есячные оклады по занимаемой долж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есячные оклады по воинскому (специальному) зва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мер страховых су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ерть = 25 окладов каждому выгодоприобрета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валидность 1/2/3 = 75/50/25 окла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яжелое/легкое увечье = 10/5 окла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рочное увольнение = 5 окла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Договор ОГС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говор ОГС заклю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 страхователем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ховщико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тьего 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страхованного л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оговор страхования заключается в письменной форме на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календарный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Порядок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лонг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ействия указанного договора оговаривается при его заклю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говор включает соглашение о застрахованных лицах, об обязательствах и ответственности страхователя и страховщика, перечень страховых случаев и способы перечисления (страховых сумм застрахованному 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аво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ежду страхователем и страховщиком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озникают после заключения договора страх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Особенности выполнения обязательств по ОГС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оговор ОГС имеет худшие (по сравнению с законодательными) условия, то в случае наступления страхового случая страхователь несет ответственность перед выгодоприобритателем в полном объ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хователь обязан ознакомить застрахованных лиц с правилами осуществления ОГ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28920" y="4152960"/>
            <a:ext cx="42861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0 году постановлением правительства было впервые введено Обязательное Государственное Страхование (ОГС) военнослужащих и приравненных к ним лиц. В соответствии с этим постановлением Госстрах, а затем Росгосстрах, стал проводить за счет государства ОГС военных всех силовых структур, а также министерств и ведомств, где законом предусмотрена военная служ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Финансирование расходов на ОГС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С осуществляется за сче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с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деляем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трахователям на эти ц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соответствующих бюдж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С лиц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командирован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порядке, установленном законодательством РФ, осуществляется за счет средств, выделяемых на эти цели соответствующи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едеральным органом исполнительной в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т которого прикомандированы указанные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Основания освобождения страховщика от выплаты страховой суммы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ховщик освобождается от выплаты страховой суммы по обязательному государственному страхованию, если страховой случа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тупил вследствие совершения застрахованным лиц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изнанного в установленном судом поряд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ственно опас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ходится в установленной судом прямой причинной связи 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когольным, наркотическим или токсическим опьянением застрахованного 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вляется результатом доказанного суд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ышленного причинения застрахованным лицом вреда своему здоровью или самоубийства застрахованного ли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кроме случаев, когда самоубийство произошло через 6 месяцев с начала службы или доказанного судом доведения до самоубийст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Порядок взаиморасчетов страхователя и страховщика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в течение срока действия договора страхования произошло изменение размеров окладов застрахованных лиц, а также их численности, то недополученные или излишне полученные в связи с указанными обстоятельствами суммы страховых взносов подлежа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пла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вра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глашению сторон, заключивших договор страхования, указанные су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гут учитываться при определении размеров страховых взнос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очередной период действия договора страх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одич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несения страхователем страховых взносов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станавливается договором страх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ГЛС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9250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1992 года в России действует система обязательного государственного страхования жизни и здоровья военнослужащих, граждан, призванных на военные сборы, лиц рядового и начальствующего состава органов внутренних дел РФ, сотрудников исполнительной системы и сотрудников федеральных органов налоговой поли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895480" cy="2166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жданским кодексом (ст. 969) установлено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целях обеспечени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оциальных интересов граждан и интересов государ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коном может быть установле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язательное государственное страхова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зни, здоровья и имущества государственных служащих определенных катего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м образом, ОГС применяется относительно профессий, связанных с повышенным рис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Законодательство 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С военнослужащих регулируется следующими закон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З от 28.03.1998 N 52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б ОГС жизни и здоровья военнослужащих, граждан, призванных на военные сборы, лиц рядового и начальствующего состава органов внутренних дел РФ, государственной противопожарной службы, органов по контролю за оборотом наркотических средств и психотропных веществ, сотрудников учреждений и органов уголовно-исполнительной системы и сотрудников федеральных органов налоговой поли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ОН РФ от 21.01.1993 N 4328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дополнительных гарантиях и компенсациях военнослужащим, проходящим военную службу на территориях государств Закавказья, Прибалтики и Республики Таджикистан, а  также выполняющим задачи в условиях чрезвычайного положения и при вооруженных конфликт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З от 27.05.1998 N 76-ФЗ «О статусе военнослужащих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же существует ряд Постановлений и Приказов различных ведомств и министерств, которые также регулируют ОГ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Ст. 18  ФЗ «О статусе военнослужащих»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еннослужащие и граждане, призванные на военные сборы, подлежат обязательному государственному личному страхованию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средств федерального бюдж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ния, условия и порядок обязательного государственного личного страхования указанных военнослужащих и граждан устанавливаются федеральными законами и иными нормативными правовыми актами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. 5 Закона 4328-1 также напрямую ссылается на указанную ста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бъект страхования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ответствии с Законом №52-Ф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ъект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язательного государственного страхования являю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з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оеннослужащих и приравненных к ним в обязательном государственном страховании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61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Страховщики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язательное государственное страхование осущест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епосредственно на основании зако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иных правовых актов о таком страховании указанными в этих акт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ыми страховы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ыми государственными организаци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страховщиками) либо на основан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говоров страхова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заключаемых в соответствии с этими актами страховщиками и страхова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37335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Страховщики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(2)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гласно закону «об организации страхового дела в РФ» (ст. 6) ОГС не может осуществляться страховыми организациями, являющимися дочерними обществами по отношению к иностранным инвесторам (основным организациям) либо имеющие долю иностранных инвесторов в своем уставном капитале более 4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243400" y="1647720"/>
            <a:ext cx="2695680" cy="230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32200" y="4152960"/>
            <a:ext cx="3716640" cy="2400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24280" y="4191120"/>
            <a:ext cx="3733920" cy="228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724280" y="4191120"/>
            <a:ext cx="373392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7-02-07T23:23:2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