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0560" y="3878640"/>
            <a:ext cx="7993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056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4664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53440" y="141768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5960" y="141768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0560" y="387864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53440" y="387864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5960" y="387864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056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4664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50560" y="3878640"/>
            <a:ext cx="7993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50560" y="3878640"/>
            <a:ext cx="7993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5056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4664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53440" y="141768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55960" y="141768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50560" y="387864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53440" y="387864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55960" y="3878640"/>
            <a:ext cx="2573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056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46640" y="387864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6640" y="1417680"/>
            <a:ext cx="3900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0560" y="3878640"/>
            <a:ext cx="7993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.pn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49320"/>
            <a:ext cx="9144000" cy="6808680"/>
            <a:chOff x="0" y="49320"/>
            <a:chExt cx="9144000" cy="6808680"/>
          </a:xfrm>
        </p:grpSpPr>
        <p:sp>
          <p:nvSpPr>
            <p:cNvPr id="3" name=""/>
            <p:cNvSpPr/>
            <p:nvPr/>
          </p:nvSpPr>
          <p:spPr>
            <a:xfrm>
              <a:off x="179280" y="49320"/>
              <a:ext cx="971640" cy="6080040"/>
            </a:xfrm>
            <a:prstGeom prst="rtTriangl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50920" y="6129360"/>
              <a:ext cx="7993080" cy="549360"/>
            </a:xfrm>
            <a:prstGeom prst="rtTriangl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129360"/>
              <a:ext cx="1150920" cy="728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228600"/>
              <a:ext cx="971640" cy="6080040"/>
            </a:xfrm>
            <a:prstGeom prst="rtTriangle">
              <a:avLst/>
            </a:prstGeom>
            <a:blipFill rotWithShape="0">
              <a:blip r:embed="rId5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71640" y="6308640"/>
              <a:ext cx="7715160" cy="549360"/>
            </a:xfrm>
            <a:prstGeom prst="rtTriangle">
              <a:avLst/>
            </a:prstGeom>
            <a:blipFill rotWithShape="0">
              <a:blip r:embed="rId6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396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77133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49320"/>
            <a:ext cx="9144000" cy="6808680"/>
            <a:chOff x="0" y="49320"/>
            <a:chExt cx="9144000" cy="6808680"/>
          </a:xfrm>
        </p:grpSpPr>
        <p:sp>
          <p:nvSpPr>
            <p:cNvPr id="47" name=""/>
            <p:cNvSpPr/>
            <p:nvPr/>
          </p:nvSpPr>
          <p:spPr>
            <a:xfrm>
              <a:off x="179280" y="49320"/>
              <a:ext cx="971640" cy="6080040"/>
            </a:xfrm>
            <a:prstGeom prst="rtTriangl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50920" y="6129360"/>
              <a:ext cx="7993080" cy="549360"/>
            </a:xfrm>
            <a:prstGeom prst="rtTriangl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129360"/>
              <a:ext cx="1150920" cy="728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28600"/>
              <a:ext cx="971640" cy="6080040"/>
            </a:xfrm>
            <a:prstGeom prst="rtTriangle">
              <a:avLst/>
            </a:prstGeom>
            <a:blipFill rotWithShape="0">
              <a:blip r:embed="rId6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1640" y="6308640"/>
              <a:ext cx="7715160" cy="549360"/>
            </a:xfrm>
            <a:prstGeom prst="rtTriangle">
              <a:avLst/>
            </a:prstGeom>
            <a:blipFill rotWithShape="0">
              <a:blip r:embed="rId7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-360"/>
            <a:ext cx="9144000" cy="6808680"/>
            <a:chOff x="0" y="-360"/>
            <a:chExt cx="9144000" cy="6808680"/>
          </a:xfrm>
        </p:grpSpPr>
        <p:sp>
          <p:nvSpPr>
            <p:cNvPr id="53" name=""/>
            <p:cNvSpPr/>
            <p:nvPr/>
          </p:nvSpPr>
          <p:spPr>
            <a:xfrm rot="10800000">
              <a:off x="7993080" y="728280"/>
              <a:ext cx="971640" cy="6080040"/>
            </a:xfrm>
            <a:prstGeom prst="rtTriangle">
              <a:avLst/>
            </a:prstGeom>
            <a:blipFill rotWithShape="0">
              <a:blip r:embed="rId8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0" y="178560"/>
              <a:ext cx="7993080" cy="549360"/>
            </a:xfrm>
            <a:prstGeom prst="rtTriangle">
              <a:avLst/>
            </a:prstGeom>
            <a:blipFill rotWithShape="0">
              <a:blip r:embed="rId9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7993080" y="-360"/>
              <a:ext cx="1150920" cy="72864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172360" y="549000"/>
              <a:ext cx="971640" cy="6080040"/>
            </a:xfrm>
            <a:prstGeom prst="rtTriangle">
              <a:avLst/>
            </a:prstGeom>
            <a:blipFill rotWithShape="0">
              <a:blip r:embed="rId1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457200" y="-360"/>
              <a:ext cx="7715160" cy="549360"/>
            </a:xfrm>
            <a:prstGeom prst="rtTriangle">
              <a:avLst/>
            </a:prstGeom>
            <a:blipFill rotWithShape="0">
              <a:blip r:embed="rId12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7713360" cy="14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едеральный закон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Об аудиторской деятельност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50920" y="54432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язательный ау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язательный ауди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ежегодная обязательная аудиторская проверка ведения бухгалтерского учета и финансовой (бухгалтерской) отчетности организации или индивидуального предпринима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язательный ау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0920" y="1417680"/>
            <a:ext cx="39196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язательный аудит осуществляется в случаях, ес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ОА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Специализированная финансовая организация (кредитной организацией, бюро кредитных историй, страховой организацией …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объем выручки за год превышает 500 000 МРОТ или сумма активов больше 200 000 МРО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ГУП, МУ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) предусмотрен федеральным зако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26120" y="1417680"/>
            <a:ext cx="376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удиторская тай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143000"/>
            <a:ext cx="445932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удиторские организации и индивидуальные аудиторы обязаны хранить тайну об операциях аудируемых лиц и лиц, которым оказывались сопутствующие аудиту услу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22880" y="1644480"/>
            <a:ext cx="39211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авила (стандарты) аудиторской деятель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авила (стандарты) аудиторской деятель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единые требования к порядку осуществления аудиторской деятельности, оформлению и оценке качества аудита и сопутствующих ему услуг, а также к порядку подготовки аудиторов и оценке их квалифик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а (стандарты) аудиторской деятельности подразделяются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едеральные правила (стандарты) аудитор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ие правила (стандарты) аудиторской деятельности, действующие в профессиональных аудиторских объединениях, а также правила (стандарты) аудиторской деятельности аудиторских организаций и индивидуальных ауди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удиторское заклю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удиторское заключ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фициальный докумен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едназначенный для пользователей финансовой (бухгалтерской) отчетности аудируемых лиц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ставленный в соответствии с федеральными правила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тандартами) аудиторской деятельности и содержащий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раженное в установленной форме мн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удиторской организации или индивидуального аудитора 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остовер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инансовой (бухгалтерской) отчетности аудируемого лица и соответствии порядка ведения его бухгалтерского учета законодательству Р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ведомо ложное аудиторское 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95360" y="1417320"/>
            <a:ext cx="5048280" cy="507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ведомо ложное аудиторское заключ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аудиторское заключение, составленное без проведения аудиторской проверки или составленное по результатам такой проверки, но явно противоречащее содержанию документов, представленных для аудиторской проверки и рассмотренных аудиторской организацией или индивидуальным аудитором в ходе аудиторской проверки. Заведомо ложное аудиторское заключение признается таковым только по решению с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1143000"/>
            <a:ext cx="31240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зависимость аудитор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удит не может осуществля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учредителями (участниками) аудируемых лиц, их руководителями, бухгалтерами и иными лицами, несущими ответственность за организацию и ведение бухгалтерского учета и составление финансовой (бухгалтерской) отчет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близкие родственники лиц, указанных в п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лица ответственные за учет и отчетность организ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близкие родственники лиц, указанных в п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головными организациями по отношению к дочерн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аудиторскими организациями и индивидуальными аудиторами, оказывавшими в течение последних трех лет услуги по восстановлению и ведению бухучета и отчет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рах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22880" y="1417680"/>
            <a:ext cx="392112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роведении обязательного аудита аудиторская организация обязана страховать риск ответственности за нарушение догов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4040" y="1143000"/>
            <a:ext cx="4398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троль качества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0920" y="1417680"/>
            <a:ext cx="39196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удиторские организации и индивидуальные аудиторы обязаны установить и соблюдать правила внутреннего контроля качества проводимых ими аудиторских проверок. Требования, предъявляемые к указанным правилам, регламентируются федеральными правилами (стандартами) аудитор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0600" y="1417680"/>
            <a:ext cx="3798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ттест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ттестация на право осуществления аудиторской деятель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проверка квалификации физических лиц, желающих заниматься аудиторской деятель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ттестация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существляется в форме квалификационного экзаме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Лицам, успешно сдавшим квалификационный экзамен, выдается квалификационный аттестат аудитора. Квалификационный аттестат аудитора выдается без ограничения срока его 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язательные треб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ичие документа о высшем экономическом и (или) юридическом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ичие стажа работы по специальности не менее трех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едеральный Зак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Об аудиторской деятельности» определяет место аудита в финансово-экономической системе и правовые основы регулирования аудиторской деятельности в РФ.  Принят 07.08.2001 № 119-Ф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последующими изменениями и дополнения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4-ФЗ от 14.12.200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-ФЗ от 30.12.20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нулирование аттест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лификационный аттестат аудитора аннулируется в случаях, ес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установлен факт получения квалификационного аттестата аудитора с использованием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одложных документ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вступил в законную силу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риговор суд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предусматривающий наказание в виде лишения права заниматься аудиторской деятельностью в течение определенного сро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установлен факт несоблюдения требований об аудиторской тайне и независ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установлен факт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истематического наруш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аудитором при проведении аудита требований, установленных законодательством РФ или федеральными правилами (стандартами) аудиторск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установлен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факт подписания аудитором аудиторского заключения без проведения аудиторской провер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) установлен факт, что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ечение двух календарных лет подряд аудитор не осуществляет аудиторскую дея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) аудитор нарушает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ребование о прохождении обучения по программам повышения квалификац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иценз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цензирование аудиторской деятельности, в том числе порядок выдачи, приостановления и аннулирования лицензии, осуществляется в соответствии с законодательством Российской Федерации о лицензировании отдельных видов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стоящее время активно рассматриваются нормативные акты, в соответствии с которыми предусматривается отмена лицензии и замена её членством в СРО. Отмена лицензирования первоначально планировалась еще 1.01.2006. Однако комитет по собственности Госдумы продлил лицензирование аудиторской деятельности до 1.01.2007 (до принятия поправок в закон «Об аудиторской деятельности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рган государственного регулир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0920" y="1417680"/>
            <a:ext cx="39196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и федерального органа государственного регулирования аудиторской деятельности осуществляет уполномоченный федеральный орган исполнительной власти - 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истерство финансов 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8512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ми функциями уполномоченного федерального органа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здание в пределах своей компетенции НПА, регулирующих аудиторскую деятель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изация разработки и представление на утверждение Правительству РФ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федеральных прави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стандартов) аудитор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изация в установленном законодательством РФ порядке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истемы аттестаци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обучения и повышения квалификации аудиторов в РФ, лицензирование аудитор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истемы надзор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за соблюдением аудиторскими организациями и индивидуальными аудиторами лицензионных требований и услов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контроль за соблюдение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аудиторскими организациями и индивидуальными аудиторами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федеральных прави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стандартов) аудитор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определение объем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и разработка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поряд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представления уполномоченному федеральному органу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отчетности аудиторских организац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и индивидуальных аудитор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едение государственных реестр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аккредитаци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профессиональных аудиторских объедин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ет по аудиторск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целях учета мнения профессиональных участников рынка аудиторской деятельности по вопрос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я и реализации государственной политики в области аудиторск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и разработки системы мер по государственной поддержке становления и развития рынка аудиторских услуг в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ется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овет по аудиторск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и Минфи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ение о совете по аудиторской деятельности утверждается руководителем уполномоченного федерального орга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кредитованные профессиональные аудиторские объеди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ккредитованное профессиональное аудиторское объедин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аморегулируемое объединение аудиторов, индивидуальных аудиторов, аудиторских организаций, созданное в соответствии с законодательством РФ в целя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еспечения условий аудиторской деятельности своих членов и защиты их интерес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действующее на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коммерческой основ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устанавливающее обязательные для своих члено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нутренние правила (стандарты) аудиторск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фессиональной эт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существляющее систематический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троль за их соблюден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лучившее аккредитацию в уполномоченном федеральном органе (Минфин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йный аппа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атье 1 определяется понятие аудита и определяется основная цель ауди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удиторская 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- предпринимательская деятельность по независимой проверке бухучета и отчетности организаций и индивидуальных предпринимателей ( аудируемых лиц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ю ауди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является выражение мнения о достоверности финансовой (бухгалтерской) отчетности аудируемых лиц и соответствии порядка ведения бухгалтерского учета законодательству Российской Федер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е «достовер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0560" y="1417320"/>
            <a:ext cx="799308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верность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нимается степень точности данных финансовой (бухгалтерской) отчетности, которая позволяет пользователю этой отчетности на основании ее данных делать правильные выво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результатах хозяй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и, финансов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имущественном положе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удируемых лиц и приним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зирующиеся на этих вывод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снованные ре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3672000" cy="378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путствующие услу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татье 1 также приводится полный открытый список сопутствующих аудиту усл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Постановка, восстановление и ведение бухгалтерского учета, составление отчетности, бухгалтерское консульт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Налоговое консульт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Анализ финансово-хозяйственной деятельности организаций и индивидуальных предпринимателей, экономическое и финансовое консульт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Управленческое консультирование, в том числе связанное с реструктуризацией организ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) Правовое консультирование, а также представительство в судебных и налоговых органах по налоговым и таможенным спор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) Автоматизация бухгалтерского учета и внедрение информацион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путствующие услу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2880" y="1417680"/>
            <a:ext cx="392112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) Оценка стоимости имущества, оценка предприятий как имущественных комплексов, а также предпринимательских рис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) Разработка и анализ инвестиционных проектов, составление бизнес-план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) Проведение маркетинговых исследова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) проведение НИОКР в области, связанной с аудиторской деятельностью, и распространение их результатов, на различных носител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) обучение в установленном законодательством РФ порядке специалистов в областях, связанных с аудиторской деятельность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) Прочие услуги, связанные с аудиторской деятель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50920" y="1417680"/>
            <a:ext cx="39196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удитор и Аудиторская Организ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тьи 3 и 4 закона устанавливают данные понят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удито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является физическое лицо, отвечающее квалификационным требованиям, установленным уполномоченным федеральным органом, и имеющее квалификационный аттестат ауди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удиторская организ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коммерческая организация, осуществляющая аудиторские проверки и оказывающая сопутствующие аудиту услу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уди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0560" y="1417680"/>
            <a:ext cx="79930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удитор вправе осуществлять аудиторскую деятельность в качеств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ника аудиторской орган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ца, привлекаемого аудиторской организацией к работе на основании гражданско-правового догов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дивидуального предпринимателя, осуществляющего свою деятельность без образования юридического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дивидуальный аудитор вправе осуществлять аудиторскую деятельность, а также оказывать сопутствующие аудиту услуги. Индивидуальный аудитор не вправе осуществлять иные виды предпринимательск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удиторская орган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0920" y="1417680"/>
            <a:ext cx="3919680" cy="47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удиторская организация осуществляет свою деятельность по проведению ауди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ле получения лиценз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может быть создана в форме ОА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менее 50% резидентов (75 при руководителе-нерезидент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менее 5 аудиторов в шта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83160" y="1417680"/>
            <a:ext cx="3400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7-02-07T23:14:4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