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5280" y="0"/>
            <a:ext cx="83534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293"/>
                </a:solidFill>
                <a:latin typeface="Bookman Old Style"/>
              </a:rPr>
              <a:t>Двухмерная матрица БКГ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Bookman Old Style"/>
              </a:rPr>
              <a:t>(</a:t>
            </a:r>
            <a:r>
              <a:rPr b="1" i="1" lang="en-US" sz="4400" spc="-1" strike="noStrike">
                <a:solidFill>
                  <a:srgbClr val="800000"/>
                </a:solidFill>
                <a:latin typeface="Bookman Old Style"/>
              </a:rPr>
              <a:t>Темп роста</a:t>
            </a:r>
            <a:r>
              <a:rPr b="1" i="1" lang="en-US" sz="4400" spc="-1" strike="noStrike">
                <a:solidFill>
                  <a:srgbClr val="dfd293"/>
                </a:solidFill>
                <a:latin typeface="Bookman Old Style"/>
              </a:rPr>
              <a:t>/</a:t>
            </a:r>
            <a:r>
              <a:rPr b="1" i="1" lang="en-US" sz="4400" spc="-1" strike="noStrike">
                <a:solidFill>
                  <a:srgbClr val="800000"/>
                </a:solidFill>
                <a:latin typeface="Bookman Old Style"/>
              </a:rPr>
              <a:t>доля на рынке</a:t>
            </a:r>
            <a:r>
              <a:rPr b="1" i="1" lang="en-US" sz="4400" spc="-1" strike="noStrike">
                <a:solidFill>
                  <a:srgbClr val="ffff99"/>
                </a:solidFill>
                <a:latin typeface="Bookman Old Style"/>
              </a:rPr>
              <a:t>)</a:t>
            </a:r>
            <a:endParaRPr b="1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165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Значение метод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 матриц БКГ помогает избежать распространенной ошибки в стратеги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ообразный подход к стратегии фир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, компания задает общий целевой рост (9% в год) или показатель окупаемости капита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Return on capita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9,5% в год) для всей корпор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Последствия 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84000" y="1599840"/>
            <a:ext cx="620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еления «Дойных коров» с легкостью достигают заданных уровней доходности, менеджмент отделения не «напрягается» и получает похва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еще хуже, им часто позволяется реинвестировать значительные объем наличности в свой бизнес который уже достиг зрелости и дальше расти уже не бу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942920" cy="214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19429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Последствия Б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еления «Собак» ведут неимоверно сложную битву и, что хуже, в бесполезных попытках «оживить бизнес» растрачиваются инвест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Последствия В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езультате отделения «Звезд» и «Диких кошек» получают скромного размера финансирование и им уже не грозит перейти в категорию «Дойных кор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е неадекватные инвестиции = </a:t>
            </a:r>
            <a:r>
              <a:rPr b="0" lang="ru-RU" sz="2400" spc="-1" strike="noStrike">
                <a:solidFill>
                  <a:srgbClr val="d3a219"/>
                </a:solidFill>
                <a:latin typeface="Arial"/>
              </a:rPr>
              <a:t>деньги на вет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ения должны получить достаточное финансирование, чтобы они могли достичь доминантного положения на рынке и стать «Дойными коровами» (или «Звездами»), в противном случае рекомендуется деинвестировать и постараться получить максимум из «диких кошек», которые не были отоб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едостатки матрицы БК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льное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упрощ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сутствие учета финансового аспек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удаление собак может привести к удорожанию себестоимости коров и звезд, а так же негативно сказаться на лояльности клиентов пользующихся данным продук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пущение о том, что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оля рынка соответствует прибыл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это правило может нарушаться при выводе на рынок нового продукта с большими инвестицион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пущение что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нижение рынка вызвано окончанием жизненного цикла това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Бывают другие ситуации на рынке, например окончание ажиотажного спр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од матрицы БКГ построен на теории «жизненного цикла продукции». Метод используется для определения приоритетов продуктового портфеля бизнес един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того, чтобы обеспечить долгосрочное успешное функционирование компания должна иметь портфель продукции, который содержит как продукты с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ысоким рост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ребующие денежных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в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ак 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едленно растущие продук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которые обеспечивают текущий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енежный пото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рица двухмерная – доля на рынке и темп роста ры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ая иде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d3a219"/>
                </a:solidFill>
                <a:latin typeface="Arial"/>
              </a:rPr>
              <a:t>чем большую долю на рынке занимает продукт, или чем быстрее растет рынок продукта – тем лучше для компан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981000"/>
            <a:ext cx="6985080" cy="431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826560" y="980280"/>
            <a:ext cx="648000" cy="43196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Матрица 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BC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70828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т ры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907920"/>
            <a:ext cx="288720" cy="4392720"/>
          </a:xfrm>
          <a:prstGeom prst="upArrow">
            <a:avLst>
              <a:gd name="adj1" fmla="val 29667"/>
              <a:gd name="adj2" fmla="val 284849"/>
            </a:avLst>
          </a:prstGeom>
          <a:solidFill>
            <a:srgbClr val="ffffff"/>
          </a:solidFill>
          <a:ln w="936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6200000">
            <a:off x="4787640" y="2275200"/>
            <a:ext cx="647640" cy="71280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558972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4931280" y="1845360"/>
            <a:ext cx="216000" cy="7272360"/>
          </a:xfrm>
          <a:prstGeom prst="upArrow">
            <a:avLst>
              <a:gd name="adj1" fmla="val 52204"/>
              <a:gd name="adj2" fmla="val 431142"/>
            </a:avLst>
          </a:prstGeom>
          <a:solidFill>
            <a:srgbClr val="ffffff"/>
          </a:solidFill>
          <a:ln w="936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303640" cy="2232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981000"/>
            <a:ext cx="2879640" cy="2087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4724280"/>
            <a:ext cx="3313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йные к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0360" y="1052640"/>
            <a:ext cx="2662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кие ко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3068640"/>
            <a:ext cx="2879640" cy="2232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20000" y="4869000"/>
            <a:ext cx="1590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ба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981000"/>
            <a:ext cx="2303280" cy="20876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63640" y="1052640"/>
            <a:ext cx="144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вез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068640"/>
            <a:ext cx="6983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96000" y="836280"/>
            <a:ext cx="0" cy="4537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«Собаки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родукты с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изкой дол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изкими темпами роста ры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дукты такого рода не приносят дохода, а только поглощают ресурсы компании. Для эффективного развития от них рекомендуетс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збавлять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инимизировать их присутствие в ассортиментной полити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омп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148360" y="1557360"/>
            <a:ext cx="3241440" cy="4830840"/>
            <a:chOff x="5148360" y="1557360"/>
            <a:chExt cx="3241440" cy="4830840"/>
          </a:xfrm>
        </p:grpSpPr>
        <p:sp>
          <p:nvSpPr>
            <p:cNvPr id="102" name=""/>
            <p:cNvSpPr/>
            <p:nvPr/>
          </p:nvSpPr>
          <p:spPr>
            <a:xfrm flipV="1">
              <a:off x="5148360" y="2205000"/>
              <a:ext cx="2879640" cy="417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148360" y="3213000"/>
              <a:ext cx="3240000" cy="31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24720" y="1557360"/>
              <a:ext cx="865080" cy="64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8000" y="1916280"/>
              <a:ext cx="360360" cy="287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148360" y="1916280"/>
              <a:ext cx="2879640" cy="129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88360" y="1916280"/>
              <a:ext cx="0" cy="129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«Дойные коровы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92000" y="981000"/>
            <a:ext cx="519444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продукты с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сокой рыночной до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а рынках и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высокими темпами развит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«Дойные коровы» приносят больше, чем в них инвестируют. Оставляйте их в своем портфеле до тех пор, пока ситуация не измен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11280" y="1413000"/>
            <a:ext cx="3002040" cy="4586040"/>
            <a:chOff x="611280" y="1413000"/>
            <a:chExt cx="3002040" cy="4586040"/>
          </a:xfrm>
        </p:grpSpPr>
        <p:sp>
          <p:nvSpPr>
            <p:cNvPr id="111" name=""/>
            <p:cNvSpPr/>
            <p:nvPr/>
          </p:nvSpPr>
          <p:spPr>
            <a:xfrm>
              <a:off x="971640" y="2060640"/>
              <a:ext cx="2592360" cy="388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755640" y="314172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11280" y="1413000"/>
              <a:ext cx="865080" cy="64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280" y="1773360"/>
              <a:ext cx="360360" cy="287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1280" y="1989000"/>
              <a:ext cx="144360" cy="396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280" y="1773360"/>
              <a:ext cx="14436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1640" y="1773360"/>
              <a:ext cx="259236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«Дикие кошки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изкая рыночная дол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а рынках с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сокими темпами развит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Они потребляют ресурсы компании и мало отдают. Они поглощают большие финансовые средства, если вы захотите увеличить рыночную до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716360" y="1557000"/>
            <a:ext cx="3673440" cy="4842360"/>
            <a:chOff x="4716360" y="1557000"/>
            <a:chExt cx="3673440" cy="4842360"/>
          </a:xfrm>
        </p:grpSpPr>
        <p:sp>
          <p:nvSpPr>
            <p:cNvPr id="121" name=""/>
            <p:cNvSpPr/>
            <p:nvPr/>
          </p:nvSpPr>
          <p:spPr>
            <a:xfrm>
              <a:off x="7524720" y="1557360"/>
              <a:ext cx="865080" cy="64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16360" y="1844280"/>
              <a:ext cx="3311640" cy="453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28000" y="1557360"/>
              <a:ext cx="360360" cy="287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16360" y="1557000"/>
              <a:ext cx="331164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388360" y="1557000"/>
              <a:ext cx="0" cy="482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716360" y="3645000"/>
              <a:ext cx="3672000" cy="275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«Звезды»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дукты с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сокой рыночной до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интенсивно растущих рынка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езды принося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льшую прибы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Храните и оберегайте их, создавайте другие звез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58920" y="1700280"/>
            <a:ext cx="3097080" cy="4537080"/>
            <a:chOff x="1258920" y="1700280"/>
            <a:chExt cx="3097080" cy="4537080"/>
          </a:xfrm>
        </p:grpSpPr>
        <p:sp>
          <p:nvSpPr>
            <p:cNvPr id="130" name=""/>
            <p:cNvSpPr/>
            <p:nvPr/>
          </p:nvSpPr>
          <p:spPr>
            <a:xfrm>
              <a:off x="1258920" y="1700280"/>
              <a:ext cx="865080" cy="64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19280" y="1989000"/>
              <a:ext cx="2736720" cy="424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8920" y="1700280"/>
              <a:ext cx="360360" cy="287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8920" y="2276640"/>
              <a:ext cx="144360" cy="396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8920" y="1700280"/>
              <a:ext cx="144360" cy="180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19280" y="1700280"/>
              <a:ext cx="2736720" cy="180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403280" y="3470400"/>
              <a:ext cx="180036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03280" y="3500280"/>
              <a:ext cx="2952720" cy="27370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2411280" y="3573360"/>
              <a:ext cx="1800360" cy="16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>
              <a:off x="2556000" y="4508640"/>
              <a:ext cx="1800000" cy="16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1476360" y="4437000"/>
              <a:ext cx="1800360" cy="169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Что дальше 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роив схему, необходимо оценить свой портфель. Желательно иметь как можно </a:t>
            </a:r>
            <a:r>
              <a:rPr b="0" lang="en-US" sz="2800" spc="-1" strike="noStrike" u="sng">
                <a:solidFill>
                  <a:srgbClr val="d3a219"/>
                </a:solidFill>
                <a:uFillTx/>
                <a:latin typeface="Arial"/>
              </a:rPr>
              <a:t>меньш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«Собак», при этом важно соблюдать </a:t>
            </a:r>
            <a:r>
              <a:rPr b="0" lang="en-US" sz="2800" spc="-1" strike="noStrike" u="sng">
                <a:solidFill>
                  <a:srgbClr val="d3a219"/>
                </a:solidFill>
                <a:uFillTx/>
                <a:latin typeface="Arial"/>
              </a:rPr>
              <a:t>равновесный балан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ежду «Дойными Коровами», «Дикими кошками» и «Звездам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ь управления ассортиментным портфелем в том, чтобы </a:t>
            </a:r>
            <a:r>
              <a:rPr b="0" lang="en-US" sz="2800" spc="-1" strike="noStrike" u="sng">
                <a:solidFill>
                  <a:srgbClr val="d3a219"/>
                </a:solidFill>
                <a:uFillTx/>
                <a:latin typeface="Arial"/>
              </a:rPr>
              <a:t>развива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«Диких кошек» в «Звезды» на средства, полученные от «Дойных Коров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Что дальше 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ременем «Звезды» переходят в класс «Дойных Коров», а некоторые из «Диких кошек» превратятся в «Собак». И это значит, что успешные продукты должны быть еще более успешными, чтобы компенсировать потери от неудачи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00000" y="3919680"/>
            <a:ext cx="2952720" cy="2938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710240" y="3917880"/>
            <a:ext cx="37494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6:06:27Z</dcterms:created>
  <dc:creator>Кондратенко Кирилл Иванович</dc:creator>
  <dc:description/>
  <dc:language>en-US</dc:language>
  <cp:lastModifiedBy>Admin</cp:lastModifiedBy>
  <dcterms:modified xsi:type="dcterms:W3CDTF">2007-02-07T23:21:42Z</dcterms:modified>
  <cp:revision>13</cp:revision>
  <dc:subject/>
  <dc:title>Слайд 1</dc:title>
</cp:coreProperties>
</file>