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950580"/>
                </a:solidFill>
                <a:uFillTx/>
                <a:latin typeface="Century Gothic"/>
              </a:rPr>
              <a:t>Click to move the slide</a:t>
            </a:r>
            <a:endParaRPr b="0" i="1" lang="en-US" sz="4400" spc="-1" strike="noStrike" u="sng">
              <a:solidFill>
                <a:srgbClr val="950580"/>
              </a:solidFill>
              <a:uFillTx/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2BBE-128B-41B0-9F1F-56BE077DC4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а монополии. Заключается в способности выявить людей, обладающих монопольной властью (даже если последние о ней и не подозревают). Также к этому источнику относят и собственные уникальные способности и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структуры. Умение пользуясь полномочиями, назначать персонал на определенные (неблагоприятные) ме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помощи. Способность и желание оказывать помощь в сложных ситуациях. Тут задействовано социальное правило взаимного обмена. Чем выше ценит помощь тот кому помогли, тем больше он потом отдаст взам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. Введение новых технологий ведет к перераспределению баланса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изм. Способность обеспечивать свои права и отклоняться от своих обязанностей используя различные правила, инструкции, методики, уставы и зак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Оружие тела. Пол. Влияние на человека с использованием присущих ему инстинктов (поведенческих моделей) для женщин – воззвание к материнскому инстинкту, для мужчин – инстинкт защитника (агрессия). Возраст. Цифры – (социальное доказательство) – воздействие на человека массового м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севидящее око. Чем лучше вы понимаете своего противника, тем больше у вас над ним власти. Сила оценки. На некоторых людей внешнее мнение оказывает большее воздействие нежели внутренн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Работа с сетью. Знание, что есть нужные люди в нужном месте и в нужно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Магия. Способность воздействия на эмоции, чувства и помыслы человека. Выбор слов, логотипов, одежды, дух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к властвованию у этих людей – это не стремление к властному самоутверждению ради удовлетворения тщеславия, а стремление к выполнению ответственной руководящей работы, связанной с решением организацион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 из Википедии — свободной энциклопед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итет (лат.) — в общем смысле: значение и основанная на значении или с ним соединенная власть; в узком — влияние умственное, возбуждающее уважение, доставляемое обладанием превосходной и признанной власти или выдающейся и признанной мудрости, знания, доброде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алийский эксперимент. Гость из Кембриджского Университета. В разных классах его статус был представлен по-разному. При каждом повышении статуса гость «вырастал» в глазах студентов на полдюй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банковского экспе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имый эксперт навещает жертву и сообщает ей, что обнаружил неточности в банковских отчетах. Счет жертвы якобы имеет отношение к махинациям. Далее следует просьба снять определенную сумму. После снятия жертву навещает другой мошенник, одетый в форму охранника банка и сообщает, что все в порядке. Эксперт благодарит, жертву а охранник забирает деньги. Эксперт отвлекает жертву в течение нескольких минут, а затем удаля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чего деньги «бесследно» исчез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, проведенные в районе бухте Сан-Франциско показали, что водители престижных автомобилей пользуются особым уважением. Так если такая машина останавливалась на зеленый свет, сигналить ей начинали значительно позже, чем её неказистым собрать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может существовать, но не использоваться.  Если сотрудник работает по правилам, то у начальника нет необходимости применять к нему имеющуюся у него вла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– это функция зависимости, а точнее взаимозависимости. Чем больше один человек зависит от другого, тем больше власти и у того, и у другого. Обладание властью – это возможность влияния на удовлетворения потре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используется и начальниками, и подчиненными  для того, чтобы достичь своих целей или укрепить свое поло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этому поводу высказывался Альфред АДЛЕР (1870-1937), австрийский психолог, представитель аналитического направления в психологии. Утверждал что мотив власти в поведении человека является приобретенны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оей статье «Мотив власти» он высказывался следующим обра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личной власти представляет собой форму конкретизации стремления к совершенству! …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личной власти — это роковое заблуждение, отравляющее жизнь человеческого общества. Тот, кому дорого человеческое общество, должен отказаться от стремления пересилить других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ъяснения потребности во власти - потребности управлять другими или желания быть выше других - Адлер разработал понятия "комплекс неполноценности" и "компенсация". Он считал, что каждый маленький ребенок испытывает чувство неполноценности. Когда это чувство соединяется с тем, что Адлер называл природной врожденной потребностью в превосходстве, вместе они в комплексе начинают руководить поведением человека. Индивидуальный стиль жизни можно охарактеризовать как стремление компенсировать чувство неполноценности, стремление, которое сочетается с врожденным стремлением к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во власти наиболее полно изложена в мотивационной теории Мак-Клелланда («Теория приобретенных потребностей»). В её рамках выделяются три основных потреб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дости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соучас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во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используют власть в эгоистичных целях. В первую очередь их привлекает сама возможность командовать другими. Интересы организации для них часто отходят на второй план и даже теряют смысл, так как их внимание сконцентрировано на своей руководящей позиции в организации, на своих возможностях властвовать, на своей силе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с такой формой мотивации власти не обязательно показывают её «в открытую». Зачастую такие люди превращаются в «корпоративных крыс». Это люди изо всех сил стараются захватить власть в организации, используя интриги, внутренние противоречия и других крыс  - только ради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923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17040" y="1557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923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17040" y="3923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82440" y="1557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4880" y="1557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923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782440" y="3923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4880" y="3923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505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17040" y="155700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505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17040" y="155700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0" y="3923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505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17040" y="1557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17040" y="3923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17040" y="1557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0" y="3923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0" y="3923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7040" y="1557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3923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17040" y="3923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82440" y="1557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4880" y="1557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0" y="3923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82440" y="3923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4880" y="3923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17040" y="155700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505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17040" y="155700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923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17040" y="1557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17040" y="3923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17040" y="1557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923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17080" y="0"/>
            <a:ext cx="82692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89800" y="1303200"/>
            <a:ext cx="719280" cy="1262160"/>
          </a:xfrm>
          <a:prstGeom prst="rect">
            <a:avLst/>
          </a:prstGeom>
          <a:ln w="9360">
            <a:solidFill>
              <a:srgbClr val="cccc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buClr>
                <a:srgbClr val="ff99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52520" indent="-438120"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799"/>
              </a:spcBef>
              <a:buClr>
                <a:srgbClr val="ff99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ffffff"/>
                </a:solidFill>
                <a:uFillTx/>
                <a:latin typeface="Century Gothic"/>
              </a:rPr>
              <a:t>Click to edit the title text format</a:t>
            </a: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89800" y="44280"/>
            <a:ext cx="719280" cy="1177920"/>
          </a:xfrm>
          <a:prstGeom prst="rect">
            <a:avLst/>
          </a:prstGeom>
          <a:ln w="9360">
            <a:solidFill>
              <a:srgbClr val="cccc00"/>
            </a:solidFill>
            <a:miter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389800" y="2643120"/>
            <a:ext cx="719280" cy="1001880"/>
          </a:xfrm>
          <a:prstGeom prst="rect">
            <a:avLst/>
          </a:prstGeom>
          <a:ln w="9360">
            <a:solidFill>
              <a:srgbClr val="cccc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8244000" y="0"/>
            <a:ext cx="73080" cy="6885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464000" cy="2708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950580"/>
                </a:solidFill>
                <a:uFillTx/>
                <a:latin typeface="Century Gothic"/>
              </a:rPr>
              <a:t>Click to edit the title text format</a:t>
            </a:r>
            <a:endParaRPr b="0" i="1" lang="en-US" sz="4400" spc="-1" strike="noStrike" u="sng">
              <a:solidFill>
                <a:srgbClr val="950580"/>
              </a:solidFill>
              <a:uFillTx/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05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5058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9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5084640"/>
            <a:ext cx="8637480" cy="1278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50580"/>
                </a:solidFill>
                <a:latin typeface="Century Gothic"/>
              </a:rPr>
              <a:t>Потребность во власти и её роль в карьере менеджера</a:t>
            </a:r>
            <a:r>
              <a:rPr b="0" i="1" lang="ru-RU" sz="4000" spc="-1" strike="noStrike">
                <a:solidFill>
                  <a:srgbClr val="950580"/>
                </a:solidFill>
                <a:latin typeface="Century Gothic"/>
              </a:rPr>
              <a:t>	</a:t>
            </a:r>
            <a:endParaRPr b="0" i="1" lang="en-US" sz="4000" spc="-1" strike="noStrike" u="sng">
              <a:solidFill>
                <a:srgbClr val="950580"/>
              </a:solidFill>
              <a:uFillTx/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5058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97000"/>
            <a:ext cx="8637480" cy="79200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сть совращает. Абсолютная власть совращает абсолютн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рд Актон. Английский истор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060640"/>
            <a:ext cx="8642160" cy="79200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Знание есть власт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р Френсис Бэк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6520" y="2924280"/>
            <a:ext cx="8637480" cy="115092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очти любой человек может пережить бедствие, но если вы хотите проверить его характер, дайте ему власт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раам Линколь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ffffff"/>
                </a:solidFill>
                <a:uFillTx/>
                <a:latin typeface="Century Gothic"/>
              </a:rPr>
              <a:t>Источники власти крысы</a:t>
            </a: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78501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о выделяют 9 источников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ла монополии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ласть структуры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ласть помощи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хнология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ализм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4920" y="4292640"/>
            <a:ext cx="4308480" cy="2519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3744720" cy="4824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ffffff"/>
                </a:solidFill>
                <a:uFillTx/>
                <a:latin typeface="Century Gothic"/>
              </a:rPr>
              <a:t>Источники власти крысы.</a:t>
            </a: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ужие тела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севидящее око»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 с сетью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г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160" y="3933720"/>
            <a:ext cx="3498840" cy="288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35280" y="3935520"/>
            <a:ext cx="4264200" cy="2878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ffffff"/>
                </a:solidFill>
                <a:uFillTx/>
                <a:latin typeface="Century Gothic"/>
              </a:rPr>
              <a:t>«Власть для решения задач и проблем»</a:t>
            </a:r>
            <a:endParaRPr b="0" i="1" lang="en-US" sz="34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 лица стремятся получить власть, чтобы добиваться решения групповых задач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и удовлетворяют свою потребность властвовать путем определения целей, постановки задач перед коллективом и участием в процессе достиж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цел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659640" y="4789440"/>
            <a:ext cx="1463760" cy="2068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ffffff"/>
                </a:solidFill>
                <a:uFillTx/>
                <a:latin typeface="Century Gothic"/>
              </a:rPr>
              <a:t>Кто лучше ?</a:t>
            </a: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-Клелланд считает, что самой главной из рассматриваемых потребностей является потребность властвовать второго тип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этому важно создавать такие условия, которые позволяют менеджерам удовлетворять свою потребность – с другой развивать её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5589720"/>
            <a:ext cx="58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333360"/>
            <a:ext cx="7850160" cy="6264360"/>
          </a:xfrm>
          <a:prstGeom prst="rect">
            <a:avLst/>
          </a:prstGeom>
          <a:gradFill rotWithShape="0">
            <a:gsLst>
              <a:gs pos="0">
                <a:srgbClr val="44023b"/>
              </a:gs>
              <a:gs pos="100000">
                <a:srgbClr val="95058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600" spc="-1" strike="noStrike">
                <a:solidFill>
                  <a:srgbClr val="ff9900"/>
                </a:solidFill>
                <a:latin typeface="Arial"/>
              </a:rPr>
              <a:t>?</a:t>
            </a:r>
            <a:r>
              <a:rPr b="0" lang="en-US" sz="10600" spc="-1" strike="noStrike">
                <a:solidFill>
                  <a:srgbClr val="ff9900"/>
                </a:solidFill>
                <a:latin typeface="Arial"/>
              </a:rPr>
              <a:t>|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акие меры вы, как будущие руководители приняли бы, чтобы мотивировать именно эту потребность – быть полезным организации, добиваться решения групповых задач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ffffff"/>
                </a:solidFill>
                <a:uFillTx/>
                <a:latin typeface="Century Gothic"/>
              </a:rPr>
              <a:t>Власть и авторитет</a:t>
            </a: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ласть часто используют как синоним слова «авторитет», что не совсем верно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ть авторитетом означает всего лишь, что данный человек обладает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общепризнанной компетенцие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 данной задаче, и эта компетенция основывается на её или его личных навыках и знаниях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ffffff"/>
                </a:solidFill>
                <a:uFillTx/>
                <a:latin typeface="Century Gothic"/>
              </a:rPr>
              <a:t>Составные части авторитета</a:t>
            </a: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торитет – комплексное понятие. Некоторые его составляющие раскрываются позже других. Но в первую очередь люди обращают внимание на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итул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ежда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рибуты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ffffff"/>
                </a:solidFill>
                <a:uFillTx/>
                <a:latin typeface="Century Gothic"/>
              </a:rPr>
              <a:t>Авторитет: Титул</a:t>
            </a: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44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итулы в отличие от других символов авторитета чрезвычайно трудно и вместе с тем очень легко приобрест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стным способом – трудно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о «навесить» титул – легко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3933720"/>
            <a:ext cx="8172360" cy="2639520"/>
            <a:chOff x="0" y="3933720"/>
            <a:chExt cx="8172360" cy="26395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6659640" y="3933720"/>
              <a:ext cx="869760" cy="21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4067280" y="4005360"/>
              <a:ext cx="650880" cy="16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68360" y="4005360"/>
              <a:ext cx="2160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2268360" y="4005360"/>
              <a:ext cx="435240" cy="1093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1" name=""/>
            <p:cNvCxnSpPr>
              <a:endCxn id="140" idx="1"/>
            </p:cNvCxnSpPr>
            <p:nvPr/>
          </p:nvCxnSpPr>
          <p:spPr>
            <a:xfrm>
              <a:off x="755640" y="4293720"/>
              <a:ext cx="1513440" cy="259560"/>
            </a:xfrm>
            <a:prstGeom prst="straightConnector1">
              <a:avLst/>
            </a:prstGeom>
            <a:ln w="127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40" idx="3"/>
              <a:endCxn id="138" idx="1"/>
            </p:cNvCxnSpPr>
            <p:nvPr/>
          </p:nvCxnSpPr>
          <p:spPr>
            <a:xfrm>
              <a:off x="2703600" y="4552920"/>
              <a:ext cx="1364400" cy="272160"/>
            </a:xfrm>
            <a:prstGeom prst="straightConnector1">
              <a:avLst/>
            </a:prstGeom>
            <a:ln w="127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8" idx="3"/>
              <a:endCxn id="137" idx="1"/>
            </p:cNvCxnSpPr>
            <p:nvPr/>
          </p:nvCxnSpPr>
          <p:spPr>
            <a:xfrm>
              <a:off x="4717800" y="4824000"/>
              <a:ext cx="1942200" cy="205560"/>
            </a:xfrm>
            <a:prstGeom prst="straightConnector1">
              <a:avLst/>
            </a:prstGeom>
            <a:ln w="127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4" name=""/>
            <p:cNvSpPr/>
            <p:nvPr/>
          </p:nvSpPr>
          <p:spPr>
            <a:xfrm>
              <a:off x="0" y="465444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туден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19280" y="5157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Лаборан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35280" y="5589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Лекто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84720" y="611352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офессо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ffffff"/>
                </a:solidFill>
                <a:uFillTx/>
                <a:latin typeface="Century Gothic"/>
              </a:rPr>
              <a:t>Авторитет: Одежда</a:t>
            </a: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224000"/>
            <a:ext cx="58672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тя этот символ авторитета более осязаем, его также можно подделать.  Особенно большое воздействие на восприятие человека имеет униформ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меньшее воздейств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на человека оказывает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хорошо сшитый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ловой костюм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651640" y="330120"/>
            <a:ext cx="2519280" cy="2378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653080" y="2781360"/>
            <a:ext cx="2519280" cy="4056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ffffff"/>
                </a:solidFill>
                <a:uFillTx/>
                <a:latin typeface="Century Gothic"/>
              </a:rPr>
              <a:t>Авторитет : Атрибуты</a:t>
            </a: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82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агоценности, машины – все это атрибуты авторитета (власти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2027160"/>
            <a:ext cx="8244000" cy="4830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 успехах менеджеров судят не по тому, что они делают, а по тому как они побуждают к работе других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буждать или мотивировать других людей можно только воздействуя на них определенным образом или влияя на них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обную способность оказывать влияние принято называть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вла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ffffff"/>
                </a:solidFill>
                <a:uFillTx/>
                <a:latin typeface="Century Gothic"/>
              </a:rPr>
              <a:t>Способы защиты</a:t>
            </a: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того, чтобы обезопасить себя от пагубного воздействия ложного авторитета следует задаться следующими вопросами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йствительно ли этот авторитет является экспертом в данной области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сколько он правдив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ffffff"/>
                </a:solidFill>
                <a:uFillTx/>
                <a:latin typeface="Century Gothic"/>
              </a:rPr>
              <a:t>Вместо заключения</a:t>
            </a: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ласть и авторитет повсюду. Иногда мы не осознаем, что находимся под её влиянием. Иногда сами неосознанно её используем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английском слова «власть» и «сила», «энергия» звучат одинаково 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ажно понять, что сама по себе власть нейтральна, но цели с которыми она употребляется могут быть и плохими и хорошими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ffffff"/>
                </a:solidFill>
                <a:uFillTx/>
                <a:latin typeface="Century Gothic"/>
              </a:rPr>
              <a:t>Власть ?</a:t>
            </a: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власти подразумевает следующее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ласть - это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тенци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имеющийся у её пользователя (существует независимо от факта применения)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жду субъектом и объектом власти есть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заимосвяз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ъект власти имеет некоторую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вободу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ействи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ffffff"/>
                </a:solidFill>
                <a:uFillTx/>
                <a:latin typeface="Century Gothic"/>
              </a:rPr>
              <a:t>Потребность во власти.</a:t>
            </a: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нная потребность является приобретенной, развивается на основе обучения, жизненного опыта и заключается в том, что человек стремиться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контролировать ресурсы и процесс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протекающие в его окружени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34160" y="5013360"/>
            <a:ext cx="1438200" cy="180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64008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.Адлер (1870-1937) Австрийский психо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ffffff"/>
                </a:solidFill>
                <a:uFillTx/>
                <a:latin typeface="Century Gothic"/>
              </a:rPr>
              <a:t>А.Адлер: Потребность во власти и комплекс неполноценности </a:t>
            </a:r>
            <a:endParaRPr b="0" i="1" lang="en-US" sz="34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028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язывал данную потребность с терминами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плекс неполноценности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пенсац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16360" y="4054320"/>
            <a:ext cx="3389400" cy="2803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11280" y="4940280"/>
            <a:ext cx="406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длер считал, что каждый маленький ребенок испытывает чувство неполно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ffffff"/>
                </a:solidFill>
                <a:uFillTx/>
                <a:latin typeface="Century Gothic"/>
              </a:rPr>
              <a:t>Потребность во власти.</a:t>
            </a: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отребность во влас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заключается в стремлении оказывать влияние на поведение людей, брать на себя ответственность за их действия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05440" y="3860640"/>
            <a:ext cx="2266920" cy="2997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508464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David McClelland (1917-1998) бостонский психолог, автор мотивационной теории «приобретенных потребносте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fffff"/>
                </a:solidFill>
                <a:uFillTx/>
                <a:latin typeface="Century Gothic"/>
              </a:rPr>
              <a:t>Отсутствие потребности властвовать</a:t>
            </a:r>
            <a:endParaRPr b="0" i="1" lang="en-US" sz="30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7885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дей со слабой мотивацией власти можно определить по следующим признакам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емление полностью отказаться от каких-либо притязаний на власть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ание избегать ситуаций и действий, связанных с необходимостью выполнять властные функци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ffffff"/>
                </a:solidFill>
                <a:uFillTx/>
                <a:latin typeface="Century Gothic"/>
              </a:rPr>
              <a:t>Потребность во власти.</a:t>
            </a: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к-Клелланд четко разделяет людей с высокой потребностью во власти на две группы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Власть ради самой власти»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Власть для решения задач и проблем»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05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ffffff"/>
                </a:solidFill>
                <a:uFillTx/>
                <a:latin typeface="Century Gothic"/>
              </a:rPr>
              <a:t>«Власть ради власти»</a:t>
            </a:r>
            <a:endParaRPr b="0" i="1" lang="en-US" sz="3800" spc="-1" strike="noStrike" u="sng">
              <a:solidFill>
                <a:srgbClr val="ffffff"/>
              </a:solidFill>
              <a:uFillTx/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50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огда потребность во власти принимает своеобразную форму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Корпоративные крысы» стремятся использовать все возможные рычаги власти, в том числе и психологические метод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24480" y="1557360"/>
            <a:ext cx="3371760" cy="4530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6:45:32Z</dcterms:created>
  <dc:creator>Кондратенко Кирилл Иванович</dc:creator>
  <dc:description/>
  <cp:keywords/>
  <dc:language>en-US</dc:language>
  <cp:lastModifiedBy>Admin</cp:lastModifiedBy>
  <dcterms:modified xsi:type="dcterms:W3CDTF">2007-02-07T23:07:23Z</dcterms:modified>
  <cp:revision>109</cp:revision>
  <dc:subject/>
  <dc:title>Потребность во власти и её роль в карьере менеджера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71049</vt:lpwstr>
  </property>
</Properties>
</file>